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776-0762-4C15-9FB6-C7F1E251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B88-1A8B-4B8B-95CD-8A7A2BCB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A58-84D8-43B5-A426-90981DD0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6D2-6B99-4995-AE5D-E5F1673D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D06-BF30-49DA-8EFE-DB8A1215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1E3-99DB-49D1-B2A4-6E44A298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932-061C-4E66-B863-72710950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304-44C0-412F-8B54-3851724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0A1-0DB7-4408-8769-0C88FD45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9CE-5FD2-434A-90D6-D454495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EA1-BCF9-4F2D-9CDF-7BC0A25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0DB-241A-4EE5-824A-BA51C12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F138-4600-4F02-9EFF-A19729DFB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VEGETAČNÍ STUPŇOV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87120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Následující prezentace je hrubou a nepřesnou pomůckou pro VYMEZOVÁNÍ HRANIC mezi jednotlivými vegetačními stupni podle Zlatní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Přesnějším nástrojem je analýza botanického složení synúzie podrostu, založená na bioindikačních vlastnostech vyšších cévnatých rostlin (chtonofyt) v různém vegetačním aspektu roku (viz. FYTOCENOLOG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Buček, Lacina, 1999: Vegetační stupně vyjadřují souvislo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sledu rozdílů přírodní vege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se sledem rozdílů výškového a expozičního kli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Přechody vegetačních stupňů jsou obvykle PLYNULÉ, hranice mají DIFŮZNÍ charakter, pouze výjimečně jsou hranice ost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Z toho vyplývá, že následující pomůcka představuje ZNAČNÉ ZKRESLENÍ a zjednodušení reality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42800" y="1128600"/>
          <a:ext cx="1808280" cy="3975120"/>
        </p:xfrm>
        <a:graphic>
          <a:graphicData uri="http://schemas.openxmlformats.org/drawingml/2006/table">
            <a:tbl>
              <a:tblPr/>
              <a:tblGrid>
                <a:gridCol w="635040"/>
                <a:gridCol w="1173240"/>
              </a:tblGrid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55e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Z, J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55e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-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-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-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0"/>
            <a:endCxn id="143" idx="1"/>
          </p:cNvCxnSpPr>
          <p:nvPr/>
        </p:nvCxnSpPr>
        <p:spPr>
          <a:xfrm>
            <a:off x="5533560" y="332244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145" name=""/>
          <p:cNvSpPr/>
          <p:nvPr/>
        </p:nvSpPr>
        <p:spPr>
          <a:xfrm flipH="1">
            <a:off x="4465800" y="5045040"/>
            <a:ext cx="380880" cy="11113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5165640"/>
            <a:ext cx="212760" cy="5191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5800" y="61563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65800" y="5684760"/>
            <a:ext cx="2452680" cy="457200"/>
          </a:xfrm>
          <a:custGeom>
            <a:avLst/>
            <a:gdLst/>
            <a:ahLst/>
            <a:rect l="l" t="t" r="r" b="b"/>
            <a:pathLst>
              <a:path w="1545" h="288">
                <a:moveTo>
                  <a:pt x="0" y="288"/>
                </a:moveTo>
                <a:cubicBezTo>
                  <a:pt x="644" y="168"/>
                  <a:pt x="1288" y="48"/>
                  <a:pt x="1545" y="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40160" y="5416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61080" y="3306600"/>
            <a:ext cx="685800" cy="1738440"/>
          </a:xfrm>
          <a:custGeom>
            <a:avLst/>
            <a:gdLst/>
            <a:ahLst/>
            <a:rect l="l" t="t" r="r" b="b"/>
            <a:pathLst>
              <a:path w="451" h="1095">
                <a:moveTo>
                  <a:pt x="451" y="0"/>
                </a:moveTo>
                <a:cubicBezTo>
                  <a:pt x="263" y="456"/>
                  <a:pt x="75" y="913"/>
                  <a:pt x="0" y="109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7520" y="3336840"/>
            <a:ext cx="808200" cy="1814760"/>
          </a:xfrm>
          <a:custGeom>
            <a:avLst/>
            <a:gdLst/>
            <a:ahLst/>
            <a:rect l="l" t="t" r="r" b="b"/>
            <a:pathLst>
              <a:path w="509" h="1143">
                <a:moveTo>
                  <a:pt x="0" y="0"/>
                </a:moveTo>
                <a:cubicBezTo>
                  <a:pt x="212" y="476"/>
                  <a:pt x="424" y="953"/>
                  <a:pt x="509" y="1143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3040" y="428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16640" y="2830680"/>
            <a:ext cx="366480" cy="506160"/>
          </a:xfrm>
          <a:custGeom>
            <a:avLst/>
            <a:gdLst/>
            <a:ahLst/>
            <a:rect l="l" t="t" r="r" b="b"/>
            <a:pathLst>
              <a:path w="231" h="319">
                <a:moveTo>
                  <a:pt x="0" y="300"/>
                </a:moveTo>
                <a:cubicBezTo>
                  <a:pt x="38" y="150"/>
                  <a:pt x="77" y="0"/>
                  <a:pt x="115" y="3"/>
                </a:cubicBezTo>
                <a:cubicBezTo>
                  <a:pt x="153" y="6"/>
                  <a:pt x="212" y="266"/>
                  <a:pt x="231" y="319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612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0320" y="334800"/>
            <a:ext cx="3140280" cy="976320"/>
          </a:xfrm>
          <a:custGeom>
            <a:avLst/>
            <a:gdLst/>
            <a:ahLst/>
            <a:rect l="l" t="t" r="r" b="b"/>
            <a:pathLst>
              <a:path w="1978" h="615">
                <a:moveTo>
                  <a:pt x="0" y="0"/>
                </a:moveTo>
                <a:cubicBezTo>
                  <a:pt x="44" y="4"/>
                  <a:pt x="88" y="8"/>
                  <a:pt x="125" y="19"/>
                </a:cubicBezTo>
                <a:cubicBezTo>
                  <a:pt x="162" y="30"/>
                  <a:pt x="179" y="43"/>
                  <a:pt x="221" y="67"/>
                </a:cubicBezTo>
                <a:cubicBezTo>
                  <a:pt x="263" y="91"/>
                  <a:pt x="333" y="137"/>
                  <a:pt x="375" y="163"/>
                </a:cubicBezTo>
                <a:cubicBezTo>
                  <a:pt x="417" y="189"/>
                  <a:pt x="436" y="202"/>
                  <a:pt x="471" y="221"/>
                </a:cubicBezTo>
                <a:cubicBezTo>
                  <a:pt x="506" y="240"/>
                  <a:pt x="532" y="253"/>
                  <a:pt x="586" y="279"/>
                </a:cubicBezTo>
                <a:cubicBezTo>
                  <a:pt x="640" y="305"/>
                  <a:pt x="748" y="351"/>
                  <a:pt x="797" y="375"/>
                </a:cubicBezTo>
                <a:cubicBezTo>
                  <a:pt x="846" y="399"/>
                  <a:pt x="853" y="412"/>
                  <a:pt x="883" y="423"/>
                </a:cubicBezTo>
                <a:cubicBezTo>
                  <a:pt x="913" y="434"/>
                  <a:pt x="950" y="437"/>
                  <a:pt x="979" y="442"/>
                </a:cubicBezTo>
                <a:cubicBezTo>
                  <a:pt x="1008" y="447"/>
                  <a:pt x="1021" y="448"/>
                  <a:pt x="1056" y="451"/>
                </a:cubicBezTo>
                <a:cubicBezTo>
                  <a:pt x="1091" y="454"/>
                  <a:pt x="1148" y="461"/>
                  <a:pt x="1191" y="461"/>
                </a:cubicBezTo>
                <a:cubicBezTo>
                  <a:pt x="1234" y="461"/>
                  <a:pt x="1277" y="456"/>
                  <a:pt x="1315" y="451"/>
                </a:cubicBezTo>
                <a:cubicBezTo>
                  <a:pt x="1353" y="446"/>
                  <a:pt x="1383" y="435"/>
                  <a:pt x="1421" y="432"/>
                </a:cubicBezTo>
                <a:cubicBezTo>
                  <a:pt x="1459" y="429"/>
                  <a:pt x="1506" y="429"/>
                  <a:pt x="1546" y="432"/>
                </a:cubicBezTo>
                <a:cubicBezTo>
                  <a:pt x="1586" y="435"/>
                  <a:pt x="1631" y="443"/>
                  <a:pt x="1661" y="451"/>
                </a:cubicBezTo>
                <a:cubicBezTo>
                  <a:pt x="1691" y="459"/>
                  <a:pt x="1701" y="472"/>
                  <a:pt x="1728" y="480"/>
                </a:cubicBezTo>
                <a:cubicBezTo>
                  <a:pt x="1755" y="488"/>
                  <a:pt x="1792" y="488"/>
                  <a:pt x="1824" y="499"/>
                </a:cubicBezTo>
                <a:cubicBezTo>
                  <a:pt x="1856" y="510"/>
                  <a:pt x="1894" y="528"/>
                  <a:pt x="1920" y="547"/>
                </a:cubicBezTo>
                <a:cubicBezTo>
                  <a:pt x="1946" y="566"/>
                  <a:pt x="1968" y="604"/>
                  <a:pt x="1978" y="615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851040"/>
            <a:ext cx="3429000" cy="871560"/>
          </a:xfrm>
          <a:custGeom>
            <a:avLst/>
            <a:gdLst/>
            <a:ahLst/>
            <a:rect l="l" t="t" r="r" b="b"/>
            <a:pathLst>
              <a:path w="2160" h="549">
                <a:moveTo>
                  <a:pt x="0" y="78"/>
                </a:moveTo>
                <a:cubicBezTo>
                  <a:pt x="18" y="56"/>
                  <a:pt x="37" y="34"/>
                  <a:pt x="67" y="21"/>
                </a:cubicBezTo>
                <a:cubicBezTo>
                  <a:pt x="97" y="8"/>
                  <a:pt x="145" y="4"/>
                  <a:pt x="182" y="2"/>
                </a:cubicBezTo>
                <a:cubicBezTo>
                  <a:pt x="219" y="0"/>
                  <a:pt x="258" y="0"/>
                  <a:pt x="288" y="11"/>
                </a:cubicBezTo>
                <a:cubicBezTo>
                  <a:pt x="318" y="22"/>
                  <a:pt x="335" y="26"/>
                  <a:pt x="365" y="69"/>
                </a:cubicBezTo>
                <a:cubicBezTo>
                  <a:pt x="395" y="112"/>
                  <a:pt x="443" y="221"/>
                  <a:pt x="470" y="270"/>
                </a:cubicBezTo>
                <a:cubicBezTo>
                  <a:pt x="497" y="319"/>
                  <a:pt x="507" y="329"/>
                  <a:pt x="528" y="366"/>
                </a:cubicBezTo>
                <a:cubicBezTo>
                  <a:pt x="549" y="403"/>
                  <a:pt x="573" y="464"/>
                  <a:pt x="595" y="491"/>
                </a:cubicBezTo>
                <a:cubicBezTo>
                  <a:pt x="617" y="518"/>
                  <a:pt x="638" y="524"/>
                  <a:pt x="662" y="530"/>
                </a:cubicBezTo>
                <a:cubicBezTo>
                  <a:pt x="686" y="536"/>
                  <a:pt x="704" y="533"/>
                  <a:pt x="739" y="530"/>
                </a:cubicBezTo>
                <a:cubicBezTo>
                  <a:pt x="774" y="527"/>
                  <a:pt x="832" y="515"/>
                  <a:pt x="874" y="510"/>
                </a:cubicBezTo>
                <a:cubicBezTo>
                  <a:pt x="916" y="505"/>
                  <a:pt x="941" y="501"/>
                  <a:pt x="989" y="501"/>
                </a:cubicBezTo>
                <a:cubicBezTo>
                  <a:pt x="1037" y="501"/>
                  <a:pt x="1105" y="509"/>
                  <a:pt x="1162" y="510"/>
                </a:cubicBezTo>
                <a:cubicBezTo>
                  <a:pt x="1219" y="511"/>
                  <a:pt x="1286" y="512"/>
                  <a:pt x="1334" y="510"/>
                </a:cubicBezTo>
                <a:cubicBezTo>
                  <a:pt x="1382" y="508"/>
                  <a:pt x="1408" y="504"/>
                  <a:pt x="1450" y="501"/>
                </a:cubicBezTo>
                <a:cubicBezTo>
                  <a:pt x="1492" y="498"/>
                  <a:pt x="1535" y="501"/>
                  <a:pt x="1584" y="491"/>
                </a:cubicBezTo>
                <a:cubicBezTo>
                  <a:pt x="1633" y="481"/>
                  <a:pt x="1696" y="454"/>
                  <a:pt x="1747" y="443"/>
                </a:cubicBezTo>
                <a:cubicBezTo>
                  <a:pt x="1798" y="432"/>
                  <a:pt x="1852" y="429"/>
                  <a:pt x="1891" y="424"/>
                </a:cubicBezTo>
                <a:cubicBezTo>
                  <a:pt x="1930" y="419"/>
                  <a:pt x="1948" y="411"/>
                  <a:pt x="1978" y="414"/>
                </a:cubicBezTo>
                <a:cubicBezTo>
                  <a:pt x="2008" y="417"/>
                  <a:pt x="2044" y="421"/>
                  <a:pt x="2074" y="443"/>
                </a:cubicBezTo>
                <a:cubicBezTo>
                  <a:pt x="2104" y="465"/>
                  <a:pt x="2146" y="531"/>
                  <a:pt x="2160" y="549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1886040"/>
            <a:ext cx="2849760" cy="609480"/>
          </a:xfrm>
          <a:custGeom>
            <a:avLst/>
            <a:gdLst/>
            <a:ahLst/>
            <a:rect l="l" t="t" r="r" b="b"/>
            <a:pathLst>
              <a:path w="1795" h="384">
                <a:moveTo>
                  <a:pt x="0" y="223"/>
                </a:moveTo>
                <a:cubicBezTo>
                  <a:pt x="51" y="184"/>
                  <a:pt x="102" y="146"/>
                  <a:pt x="134" y="127"/>
                </a:cubicBezTo>
                <a:cubicBezTo>
                  <a:pt x="166" y="108"/>
                  <a:pt x="173" y="114"/>
                  <a:pt x="192" y="108"/>
                </a:cubicBezTo>
                <a:cubicBezTo>
                  <a:pt x="211" y="102"/>
                  <a:pt x="224" y="91"/>
                  <a:pt x="250" y="89"/>
                </a:cubicBezTo>
                <a:cubicBezTo>
                  <a:pt x="276" y="87"/>
                  <a:pt x="321" y="92"/>
                  <a:pt x="346" y="98"/>
                </a:cubicBezTo>
                <a:cubicBezTo>
                  <a:pt x="371" y="104"/>
                  <a:pt x="374" y="100"/>
                  <a:pt x="403" y="127"/>
                </a:cubicBezTo>
                <a:cubicBezTo>
                  <a:pt x="432" y="154"/>
                  <a:pt x="468" y="222"/>
                  <a:pt x="518" y="262"/>
                </a:cubicBezTo>
                <a:cubicBezTo>
                  <a:pt x="568" y="302"/>
                  <a:pt x="638" y="350"/>
                  <a:pt x="701" y="367"/>
                </a:cubicBezTo>
                <a:cubicBezTo>
                  <a:pt x="764" y="384"/>
                  <a:pt x="847" y="373"/>
                  <a:pt x="893" y="367"/>
                </a:cubicBezTo>
                <a:cubicBezTo>
                  <a:pt x="939" y="361"/>
                  <a:pt x="946" y="346"/>
                  <a:pt x="979" y="329"/>
                </a:cubicBezTo>
                <a:cubicBezTo>
                  <a:pt x="1012" y="312"/>
                  <a:pt x="1046" y="296"/>
                  <a:pt x="1094" y="262"/>
                </a:cubicBezTo>
                <a:cubicBezTo>
                  <a:pt x="1142" y="228"/>
                  <a:pt x="1195" y="161"/>
                  <a:pt x="1267" y="127"/>
                </a:cubicBezTo>
                <a:cubicBezTo>
                  <a:pt x="1339" y="93"/>
                  <a:pt x="1463" y="79"/>
                  <a:pt x="1526" y="60"/>
                </a:cubicBezTo>
                <a:cubicBezTo>
                  <a:pt x="1589" y="41"/>
                  <a:pt x="1597" y="22"/>
                  <a:pt x="1642" y="12"/>
                </a:cubicBezTo>
                <a:cubicBezTo>
                  <a:pt x="1687" y="2"/>
                  <a:pt x="1762" y="0"/>
                  <a:pt x="1795" y="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29040" y="334800"/>
            <a:ext cx="870120" cy="2500560"/>
          </a:xfrm>
          <a:custGeom>
            <a:avLst/>
            <a:gdLst/>
            <a:ahLst/>
            <a:rect l="l" t="t" r="r" b="b"/>
            <a:pathLst>
              <a:path w="548" h="1575">
                <a:moveTo>
                  <a:pt x="376" y="0"/>
                </a:moveTo>
                <a:cubicBezTo>
                  <a:pt x="252" y="101"/>
                  <a:pt x="128" y="203"/>
                  <a:pt x="78" y="403"/>
                </a:cubicBezTo>
                <a:cubicBezTo>
                  <a:pt x="28" y="603"/>
                  <a:pt x="0" y="1005"/>
                  <a:pt x="78" y="1200"/>
                </a:cubicBezTo>
                <a:cubicBezTo>
                  <a:pt x="156" y="1395"/>
                  <a:pt x="470" y="1513"/>
                  <a:pt x="548" y="157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99160" y="1311120"/>
            <a:ext cx="2895480" cy="1524240"/>
          </a:xfrm>
          <a:custGeom>
            <a:avLst/>
            <a:gdLst/>
            <a:ahLst/>
            <a:rect l="l" t="t" r="r" b="b"/>
            <a:pathLst>
              <a:path w="1824" h="960">
                <a:moveTo>
                  <a:pt x="1824" y="0"/>
                </a:moveTo>
                <a:cubicBezTo>
                  <a:pt x="1792" y="108"/>
                  <a:pt x="1761" y="216"/>
                  <a:pt x="1680" y="278"/>
                </a:cubicBezTo>
                <a:cubicBezTo>
                  <a:pt x="1599" y="340"/>
                  <a:pt x="1615" y="260"/>
                  <a:pt x="1335" y="374"/>
                </a:cubicBezTo>
                <a:cubicBezTo>
                  <a:pt x="1055" y="488"/>
                  <a:pt x="222" y="862"/>
                  <a:pt x="0" y="96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6160" y="493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50000" y="1087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21400" y="17589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16480" y="2200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38640" y="351000"/>
            <a:ext cx="2071440" cy="4694040"/>
          </a:xfrm>
          <a:custGeom>
            <a:avLst/>
            <a:gdLst/>
            <a:ahLst/>
            <a:rect l="l" t="t" r="r" b="b"/>
            <a:pathLst>
              <a:path w="1305" h="2957">
                <a:moveTo>
                  <a:pt x="940" y="2957"/>
                </a:moveTo>
                <a:cubicBezTo>
                  <a:pt x="895" y="2945"/>
                  <a:pt x="850" y="2934"/>
                  <a:pt x="815" y="2918"/>
                </a:cubicBezTo>
                <a:cubicBezTo>
                  <a:pt x="780" y="2902"/>
                  <a:pt x="772" y="2898"/>
                  <a:pt x="729" y="2861"/>
                </a:cubicBezTo>
                <a:cubicBezTo>
                  <a:pt x="686" y="2824"/>
                  <a:pt x="607" y="2745"/>
                  <a:pt x="556" y="2697"/>
                </a:cubicBezTo>
                <a:cubicBezTo>
                  <a:pt x="505" y="2649"/>
                  <a:pt x="467" y="2613"/>
                  <a:pt x="422" y="2573"/>
                </a:cubicBezTo>
                <a:cubicBezTo>
                  <a:pt x="377" y="2533"/>
                  <a:pt x="329" y="2500"/>
                  <a:pt x="287" y="2457"/>
                </a:cubicBezTo>
                <a:cubicBezTo>
                  <a:pt x="245" y="2414"/>
                  <a:pt x="205" y="2363"/>
                  <a:pt x="172" y="2313"/>
                </a:cubicBezTo>
                <a:cubicBezTo>
                  <a:pt x="139" y="2263"/>
                  <a:pt x="107" y="2209"/>
                  <a:pt x="86" y="2160"/>
                </a:cubicBezTo>
                <a:cubicBezTo>
                  <a:pt x="65" y="2111"/>
                  <a:pt x="58" y="2070"/>
                  <a:pt x="47" y="2016"/>
                </a:cubicBezTo>
                <a:cubicBezTo>
                  <a:pt x="36" y="1962"/>
                  <a:pt x="24" y="1911"/>
                  <a:pt x="19" y="1833"/>
                </a:cubicBezTo>
                <a:cubicBezTo>
                  <a:pt x="14" y="1755"/>
                  <a:pt x="0" y="1633"/>
                  <a:pt x="19" y="1545"/>
                </a:cubicBezTo>
                <a:cubicBezTo>
                  <a:pt x="38" y="1457"/>
                  <a:pt x="101" y="1366"/>
                  <a:pt x="134" y="1305"/>
                </a:cubicBezTo>
                <a:cubicBezTo>
                  <a:pt x="167" y="1244"/>
                  <a:pt x="174" y="1237"/>
                  <a:pt x="220" y="1181"/>
                </a:cubicBezTo>
                <a:cubicBezTo>
                  <a:pt x="266" y="1125"/>
                  <a:pt x="356" y="1036"/>
                  <a:pt x="412" y="969"/>
                </a:cubicBezTo>
                <a:cubicBezTo>
                  <a:pt x="468" y="902"/>
                  <a:pt x="519" y="846"/>
                  <a:pt x="556" y="777"/>
                </a:cubicBezTo>
                <a:cubicBezTo>
                  <a:pt x="593" y="708"/>
                  <a:pt x="617" y="610"/>
                  <a:pt x="633" y="557"/>
                </a:cubicBezTo>
                <a:cubicBezTo>
                  <a:pt x="649" y="504"/>
                  <a:pt x="633" y="501"/>
                  <a:pt x="652" y="461"/>
                </a:cubicBezTo>
                <a:cubicBezTo>
                  <a:pt x="671" y="421"/>
                  <a:pt x="719" y="355"/>
                  <a:pt x="748" y="317"/>
                </a:cubicBezTo>
                <a:cubicBezTo>
                  <a:pt x="777" y="279"/>
                  <a:pt x="795" y="260"/>
                  <a:pt x="825" y="230"/>
                </a:cubicBezTo>
                <a:cubicBezTo>
                  <a:pt x="855" y="200"/>
                  <a:pt x="896" y="164"/>
                  <a:pt x="931" y="134"/>
                </a:cubicBezTo>
                <a:cubicBezTo>
                  <a:pt x="966" y="104"/>
                  <a:pt x="1001" y="69"/>
                  <a:pt x="1036" y="48"/>
                </a:cubicBezTo>
                <a:cubicBezTo>
                  <a:pt x="1071" y="27"/>
                  <a:pt x="1097" y="17"/>
                  <a:pt x="1142" y="9"/>
                </a:cubicBezTo>
                <a:cubicBezTo>
                  <a:pt x="1187" y="1"/>
                  <a:pt x="1246" y="0"/>
                  <a:pt x="1305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1560" y="1341360"/>
            <a:ext cx="2101680" cy="3810240"/>
          </a:xfrm>
          <a:custGeom>
            <a:avLst/>
            <a:gdLst/>
            <a:ahLst/>
            <a:rect l="l" t="t" r="r" b="b"/>
            <a:pathLst>
              <a:path w="1324" h="2400">
                <a:moveTo>
                  <a:pt x="0" y="2400"/>
                </a:moveTo>
                <a:cubicBezTo>
                  <a:pt x="34" y="2389"/>
                  <a:pt x="68" y="2379"/>
                  <a:pt x="105" y="2361"/>
                </a:cubicBezTo>
                <a:cubicBezTo>
                  <a:pt x="142" y="2343"/>
                  <a:pt x="183" y="2313"/>
                  <a:pt x="220" y="2294"/>
                </a:cubicBezTo>
                <a:cubicBezTo>
                  <a:pt x="257" y="2275"/>
                  <a:pt x="289" y="2268"/>
                  <a:pt x="326" y="2246"/>
                </a:cubicBezTo>
                <a:cubicBezTo>
                  <a:pt x="363" y="2224"/>
                  <a:pt x="414" y="2184"/>
                  <a:pt x="441" y="2160"/>
                </a:cubicBezTo>
                <a:cubicBezTo>
                  <a:pt x="468" y="2136"/>
                  <a:pt x="471" y="2134"/>
                  <a:pt x="489" y="2102"/>
                </a:cubicBezTo>
                <a:cubicBezTo>
                  <a:pt x="507" y="2070"/>
                  <a:pt x="533" y="2033"/>
                  <a:pt x="547" y="1968"/>
                </a:cubicBezTo>
                <a:cubicBezTo>
                  <a:pt x="561" y="1903"/>
                  <a:pt x="574" y="1797"/>
                  <a:pt x="576" y="1709"/>
                </a:cubicBezTo>
                <a:cubicBezTo>
                  <a:pt x="578" y="1621"/>
                  <a:pt x="553" y="1515"/>
                  <a:pt x="556" y="1440"/>
                </a:cubicBezTo>
                <a:cubicBezTo>
                  <a:pt x="559" y="1365"/>
                  <a:pt x="571" y="1315"/>
                  <a:pt x="595" y="1257"/>
                </a:cubicBezTo>
                <a:cubicBezTo>
                  <a:pt x="619" y="1199"/>
                  <a:pt x="660" y="1151"/>
                  <a:pt x="700" y="1094"/>
                </a:cubicBezTo>
                <a:cubicBezTo>
                  <a:pt x="740" y="1037"/>
                  <a:pt x="777" y="966"/>
                  <a:pt x="835" y="912"/>
                </a:cubicBezTo>
                <a:cubicBezTo>
                  <a:pt x="893" y="858"/>
                  <a:pt x="990" y="813"/>
                  <a:pt x="1046" y="768"/>
                </a:cubicBezTo>
                <a:cubicBezTo>
                  <a:pt x="1102" y="723"/>
                  <a:pt x="1136" y="675"/>
                  <a:pt x="1171" y="643"/>
                </a:cubicBezTo>
                <a:cubicBezTo>
                  <a:pt x="1206" y="611"/>
                  <a:pt x="1235" y="602"/>
                  <a:pt x="1257" y="576"/>
                </a:cubicBezTo>
                <a:cubicBezTo>
                  <a:pt x="1279" y="550"/>
                  <a:pt x="1294" y="519"/>
                  <a:pt x="1305" y="489"/>
                </a:cubicBezTo>
                <a:cubicBezTo>
                  <a:pt x="1316" y="459"/>
                  <a:pt x="1324" y="431"/>
                  <a:pt x="1324" y="393"/>
                </a:cubicBezTo>
                <a:cubicBezTo>
                  <a:pt x="1324" y="355"/>
                  <a:pt x="1318" y="302"/>
                  <a:pt x="1305" y="259"/>
                </a:cubicBezTo>
                <a:cubicBezTo>
                  <a:pt x="1292" y="216"/>
                  <a:pt x="1264" y="167"/>
                  <a:pt x="1248" y="134"/>
                </a:cubicBezTo>
                <a:cubicBezTo>
                  <a:pt x="1232" y="101"/>
                  <a:pt x="1219" y="79"/>
                  <a:pt x="1209" y="57"/>
                </a:cubicBezTo>
                <a:cubicBezTo>
                  <a:pt x="1199" y="35"/>
                  <a:pt x="1193" y="9"/>
                  <a:pt x="119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33840" y="960480"/>
            <a:ext cx="998640" cy="2332080"/>
          </a:xfrm>
          <a:custGeom>
            <a:avLst/>
            <a:gdLst/>
            <a:ahLst/>
            <a:rect l="l" t="t" r="r" b="b"/>
            <a:pathLst>
              <a:path w="629" h="1469">
                <a:moveTo>
                  <a:pt x="629" y="1469"/>
                </a:moveTo>
                <a:cubicBezTo>
                  <a:pt x="574" y="1456"/>
                  <a:pt x="520" y="1443"/>
                  <a:pt x="466" y="1430"/>
                </a:cubicBezTo>
                <a:cubicBezTo>
                  <a:pt x="412" y="1417"/>
                  <a:pt x="356" y="1405"/>
                  <a:pt x="302" y="1392"/>
                </a:cubicBezTo>
                <a:cubicBezTo>
                  <a:pt x="248" y="1379"/>
                  <a:pt x="182" y="1369"/>
                  <a:pt x="139" y="1353"/>
                </a:cubicBezTo>
                <a:cubicBezTo>
                  <a:pt x="96" y="1337"/>
                  <a:pt x="64" y="1336"/>
                  <a:pt x="43" y="1296"/>
                </a:cubicBezTo>
                <a:cubicBezTo>
                  <a:pt x="22" y="1256"/>
                  <a:pt x="20" y="1171"/>
                  <a:pt x="14" y="1113"/>
                </a:cubicBezTo>
                <a:cubicBezTo>
                  <a:pt x="8" y="1055"/>
                  <a:pt x="0" y="993"/>
                  <a:pt x="5" y="950"/>
                </a:cubicBezTo>
                <a:cubicBezTo>
                  <a:pt x="10" y="907"/>
                  <a:pt x="32" y="908"/>
                  <a:pt x="43" y="854"/>
                </a:cubicBezTo>
                <a:cubicBezTo>
                  <a:pt x="54" y="800"/>
                  <a:pt x="66" y="689"/>
                  <a:pt x="72" y="624"/>
                </a:cubicBezTo>
                <a:cubicBezTo>
                  <a:pt x="78" y="559"/>
                  <a:pt x="68" y="528"/>
                  <a:pt x="82" y="461"/>
                </a:cubicBezTo>
                <a:cubicBezTo>
                  <a:pt x="96" y="394"/>
                  <a:pt x="139" y="282"/>
                  <a:pt x="158" y="221"/>
                </a:cubicBezTo>
                <a:cubicBezTo>
                  <a:pt x="177" y="160"/>
                  <a:pt x="184" y="125"/>
                  <a:pt x="197" y="96"/>
                </a:cubicBezTo>
                <a:cubicBezTo>
                  <a:pt x="210" y="67"/>
                  <a:pt x="224" y="64"/>
                  <a:pt x="235" y="48"/>
                </a:cubicBezTo>
                <a:cubicBezTo>
                  <a:pt x="246" y="32"/>
                  <a:pt x="255" y="16"/>
                  <a:pt x="264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3360" y="1768320"/>
            <a:ext cx="2527200" cy="1554480"/>
          </a:xfrm>
          <a:custGeom>
            <a:avLst/>
            <a:gdLst/>
            <a:ahLst/>
            <a:rect l="l" t="t" r="r" b="b"/>
            <a:pathLst>
              <a:path w="1592" h="979">
                <a:moveTo>
                  <a:pt x="0" y="979"/>
                </a:moveTo>
                <a:cubicBezTo>
                  <a:pt x="10" y="958"/>
                  <a:pt x="21" y="937"/>
                  <a:pt x="86" y="892"/>
                </a:cubicBezTo>
                <a:cubicBezTo>
                  <a:pt x="151" y="847"/>
                  <a:pt x="316" y="759"/>
                  <a:pt x="393" y="710"/>
                </a:cubicBezTo>
                <a:cubicBezTo>
                  <a:pt x="470" y="661"/>
                  <a:pt x="481" y="641"/>
                  <a:pt x="547" y="595"/>
                </a:cubicBezTo>
                <a:cubicBezTo>
                  <a:pt x="613" y="549"/>
                  <a:pt x="721" y="467"/>
                  <a:pt x="787" y="432"/>
                </a:cubicBezTo>
                <a:cubicBezTo>
                  <a:pt x="853" y="397"/>
                  <a:pt x="885" y="397"/>
                  <a:pt x="941" y="384"/>
                </a:cubicBezTo>
                <a:cubicBezTo>
                  <a:pt x="997" y="371"/>
                  <a:pt x="1064" y="373"/>
                  <a:pt x="1123" y="355"/>
                </a:cubicBezTo>
                <a:cubicBezTo>
                  <a:pt x="1182" y="337"/>
                  <a:pt x="1240" y="296"/>
                  <a:pt x="1296" y="278"/>
                </a:cubicBezTo>
                <a:cubicBezTo>
                  <a:pt x="1352" y="260"/>
                  <a:pt x="1413" y="271"/>
                  <a:pt x="1459" y="249"/>
                </a:cubicBezTo>
                <a:cubicBezTo>
                  <a:pt x="1505" y="227"/>
                  <a:pt x="1556" y="185"/>
                  <a:pt x="1574" y="144"/>
                </a:cubicBezTo>
                <a:cubicBezTo>
                  <a:pt x="1592" y="103"/>
                  <a:pt x="1570" y="27"/>
                  <a:pt x="1565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7040" y="1935000"/>
            <a:ext cx="2941560" cy="976320"/>
          </a:xfrm>
          <a:custGeom>
            <a:avLst/>
            <a:gdLst/>
            <a:ahLst/>
            <a:rect l="l" t="t" r="r" b="b"/>
            <a:pathLst>
              <a:path w="1853" h="615">
                <a:moveTo>
                  <a:pt x="0" y="183"/>
                </a:moveTo>
                <a:cubicBezTo>
                  <a:pt x="24" y="283"/>
                  <a:pt x="48" y="383"/>
                  <a:pt x="77" y="442"/>
                </a:cubicBezTo>
                <a:cubicBezTo>
                  <a:pt x="106" y="501"/>
                  <a:pt x="142" y="511"/>
                  <a:pt x="173" y="538"/>
                </a:cubicBezTo>
                <a:cubicBezTo>
                  <a:pt x="204" y="565"/>
                  <a:pt x="218" y="595"/>
                  <a:pt x="260" y="605"/>
                </a:cubicBezTo>
                <a:cubicBezTo>
                  <a:pt x="302" y="615"/>
                  <a:pt x="374" y="601"/>
                  <a:pt x="423" y="595"/>
                </a:cubicBezTo>
                <a:cubicBezTo>
                  <a:pt x="472" y="589"/>
                  <a:pt x="452" y="607"/>
                  <a:pt x="557" y="567"/>
                </a:cubicBezTo>
                <a:cubicBezTo>
                  <a:pt x="662" y="527"/>
                  <a:pt x="941" y="405"/>
                  <a:pt x="1056" y="355"/>
                </a:cubicBezTo>
                <a:cubicBezTo>
                  <a:pt x="1171" y="305"/>
                  <a:pt x="1173" y="299"/>
                  <a:pt x="1248" y="269"/>
                </a:cubicBezTo>
                <a:cubicBezTo>
                  <a:pt x="1323" y="239"/>
                  <a:pt x="1431" y="197"/>
                  <a:pt x="1508" y="173"/>
                </a:cubicBezTo>
                <a:cubicBezTo>
                  <a:pt x="1585" y="149"/>
                  <a:pt x="1652" y="154"/>
                  <a:pt x="1709" y="125"/>
                </a:cubicBezTo>
                <a:cubicBezTo>
                  <a:pt x="1766" y="96"/>
                  <a:pt x="1832" y="26"/>
                  <a:pt x="1853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59800" y="2703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2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79680" y="334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2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6880" y="2400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38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95320" y="2540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38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12800" y="17049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4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8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5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2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9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3500"/>
                            </p:stCondLst>
                            <p:childTnLst>
                              <p:par>
                                <p:cTn id="196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12920" y="290520"/>
          <a:ext cx="1807920" cy="3975120"/>
        </p:xfrm>
        <a:graphic>
          <a:graphicData uri="http://schemas.openxmlformats.org/drawingml/2006/table">
            <a:tbl>
              <a:tblPr/>
              <a:tblGrid>
                <a:gridCol w="634680"/>
                <a:gridCol w="1173240"/>
              </a:tblGrid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55e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Z, J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55e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O-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-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-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80" idx="0"/>
            <a:endCxn id="180" idx="1"/>
          </p:cNvCxnSpPr>
          <p:nvPr/>
        </p:nvCxnSpPr>
        <p:spPr>
          <a:xfrm>
            <a:off x="5533560" y="332244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182" name=""/>
          <p:cNvSpPr/>
          <p:nvPr/>
        </p:nvSpPr>
        <p:spPr>
          <a:xfrm flipH="1">
            <a:off x="4465800" y="5045040"/>
            <a:ext cx="380880" cy="11113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5165640"/>
            <a:ext cx="212760" cy="5191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65800" y="61563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65800" y="5684760"/>
            <a:ext cx="2452680" cy="457200"/>
          </a:xfrm>
          <a:custGeom>
            <a:avLst/>
            <a:gdLst/>
            <a:ahLst/>
            <a:rect l="l" t="t" r="r" b="b"/>
            <a:pathLst>
              <a:path w="1545" h="288">
                <a:moveTo>
                  <a:pt x="0" y="288"/>
                </a:moveTo>
                <a:cubicBezTo>
                  <a:pt x="644" y="168"/>
                  <a:pt x="1288" y="48"/>
                  <a:pt x="1545" y="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40160" y="5416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1080" y="3306600"/>
            <a:ext cx="685800" cy="1738440"/>
          </a:xfrm>
          <a:custGeom>
            <a:avLst/>
            <a:gdLst/>
            <a:ahLst/>
            <a:rect l="l" t="t" r="r" b="b"/>
            <a:pathLst>
              <a:path w="451" h="1095">
                <a:moveTo>
                  <a:pt x="451" y="0"/>
                </a:moveTo>
                <a:cubicBezTo>
                  <a:pt x="263" y="456"/>
                  <a:pt x="75" y="913"/>
                  <a:pt x="0" y="109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97520" y="3336840"/>
            <a:ext cx="808200" cy="1814760"/>
          </a:xfrm>
          <a:custGeom>
            <a:avLst/>
            <a:gdLst/>
            <a:ahLst/>
            <a:rect l="l" t="t" r="r" b="b"/>
            <a:pathLst>
              <a:path w="509" h="1143">
                <a:moveTo>
                  <a:pt x="0" y="0"/>
                </a:moveTo>
                <a:cubicBezTo>
                  <a:pt x="212" y="476"/>
                  <a:pt x="424" y="953"/>
                  <a:pt x="509" y="1143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23040" y="428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16640" y="2830680"/>
            <a:ext cx="366480" cy="506160"/>
          </a:xfrm>
          <a:custGeom>
            <a:avLst/>
            <a:gdLst/>
            <a:ahLst/>
            <a:rect l="l" t="t" r="r" b="b"/>
            <a:pathLst>
              <a:path w="231" h="319">
                <a:moveTo>
                  <a:pt x="0" y="300"/>
                </a:moveTo>
                <a:cubicBezTo>
                  <a:pt x="38" y="150"/>
                  <a:pt x="77" y="0"/>
                  <a:pt x="115" y="3"/>
                </a:cubicBezTo>
                <a:cubicBezTo>
                  <a:pt x="153" y="6"/>
                  <a:pt x="212" y="266"/>
                  <a:pt x="231" y="319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12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40320" y="334800"/>
            <a:ext cx="3140280" cy="976320"/>
          </a:xfrm>
          <a:custGeom>
            <a:avLst/>
            <a:gdLst/>
            <a:ahLst/>
            <a:rect l="l" t="t" r="r" b="b"/>
            <a:pathLst>
              <a:path w="1978" h="615">
                <a:moveTo>
                  <a:pt x="0" y="0"/>
                </a:moveTo>
                <a:cubicBezTo>
                  <a:pt x="44" y="4"/>
                  <a:pt x="88" y="8"/>
                  <a:pt x="125" y="19"/>
                </a:cubicBezTo>
                <a:cubicBezTo>
                  <a:pt x="162" y="30"/>
                  <a:pt x="179" y="43"/>
                  <a:pt x="221" y="67"/>
                </a:cubicBezTo>
                <a:cubicBezTo>
                  <a:pt x="263" y="91"/>
                  <a:pt x="333" y="137"/>
                  <a:pt x="375" y="163"/>
                </a:cubicBezTo>
                <a:cubicBezTo>
                  <a:pt x="417" y="189"/>
                  <a:pt x="436" y="202"/>
                  <a:pt x="471" y="221"/>
                </a:cubicBezTo>
                <a:cubicBezTo>
                  <a:pt x="506" y="240"/>
                  <a:pt x="532" y="253"/>
                  <a:pt x="586" y="279"/>
                </a:cubicBezTo>
                <a:cubicBezTo>
                  <a:pt x="640" y="305"/>
                  <a:pt x="748" y="351"/>
                  <a:pt x="797" y="375"/>
                </a:cubicBezTo>
                <a:cubicBezTo>
                  <a:pt x="846" y="399"/>
                  <a:pt x="853" y="412"/>
                  <a:pt x="883" y="423"/>
                </a:cubicBezTo>
                <a:cubicBezTo>
                  <a:pt x="913" y="434"/>
                  <a:pt x="950" y="437"/>
                  <a:pt x="979" y="442"/>
                </a:cubicBezTo>
                <a:cubicBezTo>
                  <a:pt x="1008" y="447"/>
                  <a:pt x="1021" y="448"/>
                  <a:pt x="1056" y="451"/>
                </a:cubicBezTo>
                <a:cubicBezTo>
                  <a:pt x="1091" y="454"/>
                  <a:pt x="1148" y="461"/>
                  <a:pt x="1191" y="461"/>
                </a:cubicBezTo>
                <a:cubicBezTo>
                  <a:pt x="1234" y="461"/>
                  <a:pt x="1277" y="456"/>
                  <a:pt x="1315" y="451"/>
                </a:cubicBezTo>
                <a:cubicBezTo>
                  <a:pt x="1353" y="446"/>
                  <a:pt x="1383" y="435"/>
                  <a:pt x="1421" y="432"/>
                </a:cubicBezTo>
                <a:cubicBezTo>
                  <a:pt x="1459" y="429"/>
                  <a:pt x="1506" y="429"/>
                  <a:pt x="1546" y="432"/>
                </a:cubicBezTo>
                <a:cubicBezTo>
                  <a:pt x="1586" y="435"/>
                  <a:pt x="1631" y="443"/>
                  <a:pt x="1661" y="451"/>
                </a:cubicBezTo>
                <a:cubicBezTo>
                  <a:pt x="1691" y="459"/>
                  <a:pt x="1701" y="472"/>
                  <a:pt x="1728" y="480"/>
                </a:cubicBezTo>
                <a:cubicBezTo>
                  <a:pt x="1755" y="488"/>
                  <a:pt x="1792" y="488"/>
                  <a:pt x="1824" y="499"/>
                </a:cubicBezTo>
                <a:cubicBezTo>
                  <a:pt x="1856" y="510"/>
                  <a:pt x="1894" y="528"/>
                  <a:pt x="1920" y="547"/>
                </a:cubicBezTo>
                <a:cubicBezTo>
                  <a:pt x="1946" y="566"/>
                  <a:pt x="1968" y="604"/>
                  <a:pt x="1978" y="615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851040"/>
            <a:ext cx="3429000" cy="871560"/>
          </a:xfrm>
          <a:custGeom>
            <a:avLst/>
            <a:gdLst/>
            <a:ahLst/>
            <a:rect l="l" t="t" r="r" b="b"/>
            <a:pathLst>
              <a:path w="2160" h="549">
                <a:moveTo>
                  <a:pt x="0" y="78"/>
                </a:moveTo>
                <a:cubicBezTo>
                  <a:pt x="18" y="56"/>
                  <a:pt x="37" y="34"/>
                  <a:pt x="67" y="21"/>
                </a:cubicBezTo>
                <a:cubicBezTo>
                  <a:pt x="97" y="8"/>
                  <a:pt x="145" y="4"/>
                  <a:pt x="182" y="2"/>
                </a:cubicBezTo>
                <a:cubicBezTo>
                  <a:pt x="219" y="0"/>
                  <a:pt x="258" y="0"/>
                  <a:pt x="288" y="11"/>
                </a:cubicBezTo>
                <a:cubicBezTo>
                  <a:pt x="318" y="22"/>
                  <a:pt x="335" y="26"/>
                  <a:pt x="365" y="69"/>
                </a:cubicBezTo>
                <a:cubicBezTo>
                  <a:pt x="395" y="112"/>
                  <a:pt x="443" y="221"/>
                  <a:pt x="470" y="270"/>
                </a:cubicBezTo>
                <a:cubicBezTo>
                  <a:pt x="497" y="319"/>
                  <a:pt x="507" y="329"/>
                  <a:pt x="528" y="366"/>
                </a:cubicBezTo>
                <a:cubicBezTo>
                  <a:pt x="549" y="403"/>
                  <a:pt x="573" y="464"/>
                  <a:pt x="595" y="491"/>
                </a:cubicBezTo>
                <a:cubicBezTo>
                  <a:pt x="617" y="518"/>
                  <a:pt x="638" y="524"/>
                  <a:pt x="662" y="530"/>
                </a:cubicBezTo>
                <a:cubicBezTo>
                  <a:pt x="686" y="536"/>
                  <a:pt x="704" y="533"/>
                  <a:pt x="739" y="530"/>
                </a:cubicBezTo>
                <a:cubicBezTo>
                  <a:pt x="774" y="527"/>
                  <a:pt x="832" y="515"/>
                  <a:pt x="874" y="510"/>
                </a:cubicBezTo>
                <a:cubicBezTo>
                  <a:pt x="916" y="505"/>
                  <a:pt x="941" y="501"/>
                  <a:pt x="989" y="501"/>
                </a:cubicBezTo>
                <a:cubicBezTo>
                  <a:pt x="1037" y="501"/>
                  <a:pt x="1105" y="509"/>
                  <a:pt x="1162" y="510"/>
                </a:cubicBezTo>
                <a:cubicBezTo>
                  <a:pt x="1219" y="511"/>
                  <a:pt x="1286" y="512"/>
                  <a:pt x="1334" y="510"/>
                </a:cubicBezTo>
                <a:cubicBezTo>
                  <a:pt x="1382" y="508"/>
                  <a:pt x="1408" y="504"/>
                  <a:pt x="1450" y="501"/>
                </a:cubicBezTo>
                <a:cubicBezTo>
                  <a:pt x="1492" y="498"/>
                  <a:pt x="1535" y="501"/>
                  <a:pt x="1584" y="491"/>
                </a:cubicBezTo>
                <a:cubicBezTo>
                  <a:pt x="1633" y="481"/>
                  <a:pt x="1696" y="454"/>
                  <a:pt x="1747" y="443"/>
                </a:cubicBezTo>
                <a:cubicBezTo>
                  <a:pt x="1798" y="432"/>
                  <a:pt x="1852" y="429"/>
                  <a:pt x="1891" y="424"/>
                </a:cubicBezTo>
                <a:cubicBezTo>
                  <a:pt x="1930" y="419"/>
                  <a:pt x="1948" y="411"/>
                  <a:pt x="1978" y="414"/>
                </a:cubicBezTo>
                <a:cubicBezTo>
                  <a:pt x="2008" y="417"/>
                  <a:pt x="2044" y="421"/>
                  <a:pt x="2074" y="443"/>
                </a:cubicBezTo>
                <a:cubicBezTo>
                  <a:pt x="2104" y="465"/>
                  <a:pt x="2146" y="531"/>
                  <a:pt x="2160" y="549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886040"/>
            <a:ext cx="2849760" cy="609480"/>
          </a:xfrm>
          <a:custGeom>
            <a:avLst/>
            <a:gdLst/>
            <a:ahLst/>
            <a:rect l="l" t="t" r="r" b="b"/>
            <a:pathLst>
              <a:path w="1795" h="384">
                <a:moveTo>
                  <a:pt x="0" y="223"/>
                </a:moveTo>
                <a:cubicBezTo>
                  <a:pt x="51" y="184"/>
                  <a:pt x="102" y="146"/>
                  <a:pt x="134" y="127"/>
                </a:cubicBezTo>
                <a:cubicBezTo>
                  <a:pt x="166" y="108"/>
                  <a:pt x="173" y="114"/>
                  <a:pt x="192" y="108"/>
                </a:cubicBezTo>
                <a:cubicBezTo>
                  <a:pt x="211" y="102"/>
                  <a:pt x="224" y="91"/>
                  <a:pt x="250" y="89"/>
                </a:cubicBezTo>
                <a:cubicBezTo>
                  <a:pt x="276" y="87"/>
                  <a:pt x="321" y="92"/>
                  <a:pt x="346" y="98"/>
                </a:cubicBezTo>
                <a:cubicBezTo>
                  <a:pt x="371" y="104"/>
                  <a:pt x="374" y="100"/>
                  <a:pt x="403" y="127"/>
                </a:cubicBezTo>
                <a:cubicBezTo>
                  <a:pt x="432" y="154"/>
                  <a:pt x="468" y="222"/>
                  <a:pt x="518" y="262"/>
                </a:cubicBezTo>
                <a:cubicBezTo>
                  <a:pt x="568" y="302"/>
                  <a:pt x="638" y="350"/>
                  <a:pt x="701" y="367"/>
                </a:cubicBezTo>
                <a:cubicBezTo>
                  <a:pt x="764" y="384"/>
                  <a:pt x="847" y="373"/>
                  <a:pt x="893" y="367"/>
                </a:cubicBezTo>
                <a:cubicBezTo>
                  <a:pt x="939" y="361"/>
                  <a:pt x="946" y="346"/>
                  <a:pt x="979" y="329"/>
                </a:cubicBezTo>
                <a:cubicBezTo>
                  <a:pt x="1012" y="312"/>
                  <a:pt x="1046" y="296"/>
                  <a:pt x="1094" y="262"/>
                </a:cubicBezTo>
                <a:cubicBezTo>
                  <a:pt x="1142" y="228"/>
                  <a:pt x="1195" y="161"/>
                  <a:pt x="1267" y="127"/>
                </a:cubicBezTo>
                <a:cubicBezTo>
                  <a:pt x="1339" y="93"/>
                  <a:pt x="1463" y="79"/>
                  <a:pt x="1526" y="60"/>
                </a:cubicBezTo>
                <a:cubicBezTo>
                  <a:pt x="1589" y="41"/>
                  <a:pt x="1597" y="22"/>
                  <a:pt x="1642" y="12"/>
                </a:cubicBezTo>
                <a:cubicBezTo>
                  <a:pt x="1687" y="2"/>
                  <a:pt x="1762" y="0"/>
                  <a:pt x="1795" y="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29040" y="334800"/>
            <a:ext cx="870120" cy="2500560"/>
          </a:xfrm>
          <a:custGeom>
            <a:avLst/>
            <a:gdLst/>
            <a:ahLst/>
            <a:rect l="l" t="t" r="r" b="b"/>
            <a:pathLst>
              <a:path w="548" h="1575">
                <a:moveTo>
                  <a:pt x="376" y="0"/>
                </a:moveTo>
                <a:cubicBezTo>
                  <a:pt x="252" y="101"/>
                  <a:pt x="128" y="203"/>
                  <a:pt x="78" y="403"/>
                </a:cubicBezTo>
                <a:cubicBezTo>
                  <a:pt x="28" y="603"/>
                  <a:pt x="0" y="1005"/>
                  <a:pt x="78" y="1200"/>
                </a:cubicBezTo>
                <a:cubicBezTo>
                  <a:pt x="156" y="1395"/>
                  <a:pt x="470" y="1513"/>
                  <a:pt x="548" y="157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9160" y="1311120"/>
            <a:ext cx="2895480" cy="1524240"/>
          </a:xfrm>
          <a:custGeom>
            <a:avLst/>
            <a:gdLst/>
            <a:ahLst/>
            <a:rect l="l" t="t" r="r" b="b"/>
            <a:pathLst>
              <a:path w="1824" h="960">
                <a:moveTo>
                  <a:pt x="1824" y="0"/>
                </a:moveTo>
                <a:cubicBezTo>
                  <a:pt x="1792" y="108"/>
                  <a:pt x="1761" y="216"/>
                  <a:pt x="1680" y="278"/>
                </a:cubicBezTo>
                <a:cubicBezTo>
                  <a:pt x="1599" y="340"/>
                  <a:pt x="1615" y="260"/>
                  <a:pt x="1335" y="374"/>
                </a:cubicBezTo>
                <a:cubicBezTo>
                  <a:pt x="1055" y="488"/>
                  <a:pt x="222" y="862"/>
                  <a:pt x="0" y="96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26160" y="493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50000" y="1087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21400" y="17589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2200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38640" y="351000"/>
            <a:ext cx="2071440" cy="4694040"/>
          </a:xfrm>
          <a:custGeom>
            <a:avLst/>
            <a:gdLst/>
            <a:ahLst/>
            <a:rect l="l" t="t" r="r" b="b"/>
            <a:pathLst>
              <a:path w="1305" h="2957">
                <a:moveTo>
                  <a:pt x="940" y="2957"/>
                </a:moveTo>
                <a:cubicBezTo>
                  <a:pt x="895" y="2945"/>
                  <a:pt x="850" y="2934"/>
                  <a:pt x="815" y="2918"/>
                </a:cubicBezTo>
                <a:cubicBezTo>
                  <a:pt x="780" y="2902"/>
                  <a:pt x="772" y="2898"/>
                  <a:pt x="729" y="2861"/>
                </a:cubicBezTo>
                <a:cubicBezTo>
                  <a:pt x="686" y="2824"/>
                  <a:pt x="607" y="2745"/>
                  <a:pt x="556" y="2697"/>
                </a:cubicBezTo>
                <a:cubicBezTo>
                  <a:pt x="505" y="2649"/>
                  <a:pt x="467" y="2613"/>
                  <a:pt x="422" y="2573"/>
                </a:cubicBezTo>
                <a:cubicBezTo>
                  <a:pt x="377" y="2533"/>
                  <a:pt x="329" y="2500"/>
                  <a:pt x="287" y="2457"/>
                </a:cubicBezTo>
                <a:cubicBezTo>
                  <a:pt x="245" y="2414"/>
                  <a:pt x="205" y="2363"/>
                  <a:pt x="172" y="2313"/>
                </a:cubicBezTo>
                <a:cubicBezTo>
                  <a:pt x="139" y="2263"/>
                  <a:pt x="107" y="2209"/>
                  <a:pt x="86" y="2160"/>
                </a:cubicBezTo>
                <a:cubicBezTo>
                  <a:pt x="65" y="2111"/>
                  <a:pt x="58" y="2070"/>
                  <a:pt x="47" y="2016"/>
                </a:cubicBezTo>
                <a:cubicBezTo>
                  <a:pt x="36" y="1962"/>
                  <a:pt x="24" y="1911"/>
                  <a:pt x="19" y="1833"/>
                </a:cubicBezTo>
                <a:cubicBezTo>
                  <a:pt x="14" y="1755"/>
                  <a:pt x="0" y="1633"/>
                  <a:pt x="19" y="1545"/>
                </a:cubicBezTo>
                <a:cubicBezTo>
                  <a:pt x="38" y="1457"/>
                  <a:pt x="101" y="1366"/>
                  <a:pt x="134" y="1305"/>
                </a:cubicBezTo>
                <a:cubicBezTo>
                  <a:pt x="167" y="1244"/>
                  <a:pt x="174" y="1237"/>
                  <a:pt x="220" y="1181"/>
                </a:cubicBezTo>
                <a:cubicBezTo>
                  <a:pt x="266" y="1125"/>
                  <a:pt x="356" y="1036"/>
                  <a:pt x="412" y="969"/>
                </a:cubicBezTo>
                <a:cubicBezTo>
                  <a:pt x="468" y="902"/>
                  <a:pt x="519" y="846"/>
                  <a:pt x="556" y="777"/>
                </a:cubicBezTo>
                <a:cubicBezTo>
                  <a:pt x="593" y="708"/>
                  <a:pt x="617" y="610"/>
                  <a:pt x="633" y="557"/>
                </a:cubicBezTo>
                <a:cubicBezTo>
                  <a:pt x="649" y="504"/>
                  <a:pt x="633" y="501"/>
                  <a:pt x="652" y="461"/>
                </a:cubicBezTo>
                <a:cubicBezTo>
                  <a:pt x="671" y="421"/>
                  <a:pt x="719" y="355"/>
                  <a:pt x="748" y="317"/>
                </a:cubicBezTo>
                <a:cubicBezTo>
                  <a:pt x="777" y="279"/>
                  <a:pt x="795" y="260"/>
                  <a:pt x="825" y="230"/>
                </a:cubicBezTo>
                <a:cubicBezTo>
                  <a:pt x="855" y="200"/>
                  <a:pt x="896" y="164"/>
                  <a:pt x="931" y="134"/>
                </a:cubicBezTo>
                <a:cubicBezTo>
                  <a:pt x="966" y="104"/>
                  <a:pt x="1001" y="69"/>
                  <a:pt x="1036" y="48"/>
                </a:cubicBezTo>
                <a:cubicBezTo>
                  <a:pt x="1071" y="27"/>
                  <a:pt x="1097" y="17"/>
                  <a:pt x="1142" y="9"/>
                </a:cubicBezTo>
                <a:cubicBezTo>
                  <a:pt x="1187" y="1"/>
                  <a:pt x="1246" y="0"/>
                  <a:pt x="1305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21560" y="1341360"/>
            <a:ext cx="2101680" cy="3810240"/>
          </a:xfrm>
          <a:custGeom>
            <a:avLst/>
            <a:gdLst/>
            <a:ahLst/>
            <a:rect l="l" t="t" r="r" b="b"/>
            <a:pathLst>
              <a:path w="1324" h="2400">
                <a:moveTo>
                  <a:pt x="0" y="2400"/>
                </a:moveTo>
                <a:cubicBezTo>
                  <a:pt x="34" y="2389"/>
                  <a:pt x="68" y="2379"/>
                  <a:pt x="105" y="2361"/>
                </a:cubicBezTo>
                <a:cubicBezTo>
                  <a:pt x="142" y="2343"/>
                  <a:pt x="183" y="2313"/>
                  <a:pt x="220" y="2294"/>
                </a:cubicBezTo>
                <a:cubicBezTo>
                  <a:pt x="257" y="2275"/>
                  <a:pt x="289" y="2268"/>
                  <a:pt x="326" y="2246"/>
                </a:cubicBezTo>
                <a:cubicBezTo>
                  <a:pt x="363" y="2224"/>
                  <a:pt x="414" y="2184"/>
                  <a:pt x="441" y="2160"/>
                </a:cubicBezTo>
                <a:cubicBezTo>
                  <a:pt x="468" y="2136"/>
                  <a:pt x="471" y="2134"/>
                  <a:pt x="489" y="2102"/>
                </a:cubicBezTo>
                <a:cubicBezTo>
                  <a:pt x="507" y="2070"/>
                  <a:pt x="533" y="2033"/>
                  <a:pt x="547" y="1968"/>
                </a:cubicBezTo>
                <a:cubicBezTo>
                  <a:pt x="561" y="1903"/>
                  <a:pt x="574" y="1797"/>
                  <a:pt x="576" y="1709"/>
                </a:cubicBezTo>
                <a:cubicBezTo>
                  <a:pt x="578" y="1621"/>
                  <a:pt x="553" y="1515"/>
                  <a:pt x="556" y="1440"/>
                </a:cubicBezTo>
                <a:cubicBezTo>
                  <a:pt x="559" y="1365"/>
                  <a:pt x="571" y="1315"/>
                  <a:pt x="595" y="1257"/>
                </a:cubicBezTo>
                <a:cubicBezTo>
                  <a:pt x="619" y="1199"/>
                  <a:pt x="660" y="1151"/>
                  <a:pt x="700" y="1094"/>
                </a:cubicBezTo>
                <a:cubicBezTo>
                  <a:pt x="740" y="1037"/>
                  <a:pt x="777" y="966"/>
                  <a:pt x="835" y="912"/>
                </a:cubicBezTo>
                <a:cubicBezTo>
                  <a:pt x="893" y="858"/>
                  <a:pt x="990" y="813"/>
                  <a:pt x="1046" y="768"/>
                </a:cubicBezTo>
                <a:cubicBezTo>
                  <a:pt x="1102" y="723"/>
                  <a:pt x="1136" y="675"/>
                  <a:pt x="1171" y="643"/>
                </a:cubicBezTo>
                <a:cubicBezTo>
                  <a:pt x="1206" y="611"/>
                  <a:pt x="1235" y="602"/>
                  <a:pt x="1257" y="576"/>
                </a:cubicBezTo>
                <a:cubicBezTo>
                  <a:pt x="1279" y="550"/>
                  <a:pt x="1294" y="519"/>
                  <a:pt x="1305" y="489"/>
                </a:cubicBezTo>
                <a:cubicBezTo>
                  <a:pt x="1316" y="459"/>
                  <a:pt x="1324" y="431"/>
                  <a:pt x="1324" y="393"/>
                </a:cubicBezTo>
                <a:cubicBezTo>
                  <a:pt x="1324" y="355"/>
                  <a:pt x="1318" y="302"/>
                  <a:pt x="1305" y="259"/>
                </a:cubicBezTo>
                <a:cubicBezTo>
                  <a:pt x="1292" y="216"/>
                  <a:pt x="1264" y="167"/>
                  <a:pt x="1248" y="134"/>
                </a:cubicBezTo>
                <a:cubicBezTo>
                  <a:pt x="1232" y="101"/>
                  <a:pt x="1219" y="79"/>
                  <a:pt x="1209" y="57"/>
                </a:cubicBezTo>
                <a:cubicBezTo>
                  <a:pt x="1199" y="35"/>
                  <a:pt x="1193" y="9"/>
                  <a:pt x="119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33840" y="960480"/>
            <a:ext cx="998640" cy="2332080"/>
          </a:xfrm>
          <a:custGeom>
            <a:avLst/>
            <a:gdLst/>
            <a:ahLst/>
            <a:rect l="l" t="t" r="r" b="b"/>
            <a:pathLst>
              <a:path w="629" h="1469">
                <a:moveTo>
                  <a:pt x="629" y="1469"/>
                </a:moveTo>
                <a:cubicBezTo>
                  <a:pt x="574" y="1456"/>
                  <a:pt x="520" y="1443"/>
                  <a:pt x="466" y="1430"/>
                </a:cubicBezTo>
                <a:cubicBezTo>
                  <a:pt x="412" y="1417"/>
                  <a:pt x="356" y="1405"/>
                  <a:pt x="302" y="1392"/>
                </a:cubicBezTo>
                <a:cubicBezTo>
                  <a:pt x="248" y="1379"/>
                  <a:pt x="182" y="1369"/>
                  <a:pt x="139" y="1353"/>
                </a:cubicBezTo>
                <a:cubicBezTo>
                  <a:pt x="96" y="1337"/>
                  <a:pt x="64" y="1336"/>
                  <a:pt x="43" y="1296"/>
                </a:cubicBezTo>
                <a:cubicBezTo>
                  <a:pt x="22" y="1256"/>
                  <a:pt x="20" y="1171"/>
                  <a:pt x="14" y="1113"/>
                </a:cubicBezTo>
                <a:cubicBezTo>
                  <a:pt x="8" y="1055"/>
                  <a:pt x="0" y="993"/>
                  <a:pt x="5" y="950"/>
                </a:cubicBezTo>
                <a:cubicBezTo>
                  <a:pt x="10" y="907"/>
                  <a:pt x="32" y="908"/>
                  <a:pt x="43" y="854"/>
                </a:cubicBezTo>
                <a:cubicBezTo>
                  <a:pt x="54" y="800"/>
                  <a:pt x="66" y="689"/>
                  <a:pt x="72" y="624"/>
                </a:cubicBezTo>
                <a:cubicBezTo>
                  <a:pt x="78" y="559"/>
                  <a:pt x="68" y="528"/>
                  <a:pt x="82" y="461"/>
                </a:cubicBezTo>
                <a:cubicBezTo>
                  <a:pt x="96" y="394"/>
                  <a:pt x="139" y="282"/>
                  <a:pt x="158" y="221"/>
                </a:cubicBezTo>
                <a:cubicBezTo>
                  <a:pt x="177" y="160"/>
                  <a:pt x="184" y="125"/>
                  <a:pt x="197" y="96"/>
                </a:cubicBezTo>
                <a:cubicBezTo>
                  <a:pt x="210" y="67"/>
                  <a:pt x="224" y="64"/>
                  <a:pt x="235" y="48"/>
                </a:cubicBezTo>
                <a:cubicBezTo>
                  <a:pt x="246" y="32"/>
                  <a:pt x="255" y="16"/>
                  <a:pt x="264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13360" y="1768320"/>
            <a:ext cx="2527200" cy="1554480"/>
          </a:xfrm>
          <a:custGeom>
            <a:avLst/>
            <a:gdLst/>
            <a:ahLst/>
            <a:rect l="l" t="t" r="r" b="b"/>
            <a:pathLst>
              <a:path w="1592" h="979">
                <a:moveTo>
                  <a:pt x="0" y="979"/>
                </a:moveTo>
                <a:cubicBezTo>
                  <a:pt x="10" y="958"/>
                  <a:pt x="21" y="937"/>
                  <a:pt x="86" y="892"/>
                </a:cubicBezTo>
                <a:cubicBezTo>
                  <a:pt x="151" y="847"/>
                  <a:pt x="316" y="759"/>
                  <a:pt x="393" y="710"/>
                </a:cubicBezTo>
                <a:cubicBezTo>
                  <a:pt x="470" y="661"/>
                  <a:pt x="481" y="641"/>
                  <a:pt x="547" y="595"/>
                </a:cubicBezTo>
                <a:cubicBezTo>
                  <a:pt x="613" y="549"/>
                  <a:pt x="721" y="467"/>
                  <a:pt x="787" y="432"/>
                </a:cubicBezTo>
                <a:cubicBezTo>
                  <a:pt x="853" y="397"/>
                  <a:pt x="885" y="397"/>
                  <a:pt x="941" y="384"/>
                </a:cubicBezTo>
                <a:cubicBezTo>
                  <a:pt x="997" y="371"/>
                  <a:pt x="1064" y="373"/>
                  <a:pt x="1123" y="355"/>
                </a:cubicBezTo>
                <a:cubicBezTo>
                  <a:pt x="1182" y="337"/>
                  <a:pt x="1240" y="296"/>
                  <a:pt x="1296" y="278"/>
                </a:cubicBezTo>
                <a:cubicBezTo>
                  <a:pt x="1352" y="260"/>
                  <a:pt x="1413" y="271"/>
                  <a:pt x="1459" y="249"/>
                </a:cubicBezTo>
                <a:cubicBezTo>
                  <a:pt x="1505" y="227"/>
                  <a:pt x="1556" y="185"/>
                  <a:pt x="1574" y="144"/>
                </a:cubicBezTo>
                <a:cubicBezTo>
                  <a:pt x="1592" y="103"/>
                  <a:pt x="1570" y="27"/>
                  <a:pt x="1565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7040" y="1935000"/>
            <a:ext cx="2941560" cy="976320"/>
          </a:xfrm>
          <a:custGeom>
            <a:avLst/>
            <a:gdLst/>
            <a:ahLst/>
            <a:rect l="l" t="t" r="r" b="b"/>
            <a:pathLst>
              <a:path w="1853" h="615">
                <a:moveTo>
                  <a:pt x="0" y="183"/>
                </a:moveTo>
                <a:cubicBezTo>
                  <a:pt x="24" y="283"/>
                  <a:pt x="48" y="383"/>
                  <a:pt x="77" y="442"/>
                </a:cubicBezTo>
                <a:cubicBezTo>
                  <a:pt x="106" y="501"/>
                  <a:pt x="142" y="511"/>
                  <a:pt x="173" y="538"/>
                </a:cubicBezTo>
                <a:cubicBezTo>
                  <a:pt x="204" y="565"/>
                  <a:pt x="218" y="595"/>
                  <a:pt x="260" y="605"/>
                </a:cubicBezTo>
                <a:cubicBezTo>
                  <a:pt x="302" y="615"/>
                  <a:pt x="374" y="601"/>
                  <a:pt x="423" y="595"/>
                </a:cubicBezTo>
                <a:cubicBezTo>
                  <a:pt x="472" y="589"/>
                  <a:pt x="452" y="607"/>
                  <a:pt x="557" y="567"/>
                </a:cubicBezTo>
                <a:cubicBezTo>
                  <a:pt x="662" y="527"/>
                  <a:pt x="941" y="405"/>
                  <a:pt x="1056" y="355"/>
                </a:cubicBezTo>
                <a:cubicBezTo>
                  <a:pt x="1171" y="305"/>
                  <a:pt x="1173" y="299"/>
                  <a:pt x="1248" y="269"/>
                </a:cubicBezTo>
                <a:cubicBezTo>
                  <a:pt x="1323" y="239"/>
                  <a:pt x="1431" y="197"/>
                  <a:pt x="1508" y="173"/>
                </a:cubicBezTo>
                <a:cubicBezTo>
                  <a:pt x="1585" y="149"/>
                  <a:pt x="1652" y="154"/>
                  <a:pt x="1709" y="125"/>
                </a:cubicBezTo>
                <a:cubicBezTo>
                  <a:pt x="1766" y="96"/>
                  <a:pt x="1832" y="26"/>
                  <a:pt x="1853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94960" y="1820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2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879680" y="3346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2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6880" y="2400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38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95320" y="2540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38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12800" y="17049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4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632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374840" y="2911320"/>
            <a:ext cx="3182760" cy="14400"/>
          </a:xfrm>
          <a:prstGeom prst="line">
            <a:avLst/>
          </a:prstGeom>
          <a:ln w="28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415880" y="2590920"/>
            <a:ext cx="5091120" cy="1157040"/>
          </a:xfrm>
          <a:prstGeom prst="line">
            <a:avLst/>
          </a:prstGeom>
          <a:ln w="28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63760" y="2362320"/>
            <a:ext cx="1842840" cy="425160"/>
          </a:xfrm>
          <a:prstGeom prst="line">
            <a:avLst/>
          </a:prstGeom>
          <a:ln w="28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0600" y="4594320"/>
            <a:ext cx="39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anici mezi 1. a 2. vegetačním stupněm vymezuji tak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i n.m. 300 (jih), 220 (západ, východ) a 15O (sever) provádím prostorovou interpol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081320" y="426420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>
            <a:off x="4070160" y="343512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3002040" y="626904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51440" y="11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82560" y="21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38400" y="620640"/>
            <a:ext cx="2322720" cy="225108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05160" y="506520"/>
            <a:ext cx="0" cy="257472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841480" y="1687320"/>
            <a:ext cx="2743200" cy="1404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5480" y="1212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43880" y="11844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0920" y="17398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61720" y="1697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2560" y="146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484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58800" y="1523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bHalfFrame"/>
          <p:cNvSpPr/>
          <p:nvPr/>
        </p:nvSpPr>
        <p:spPr>
          <a:xfrm rot="13533600">
            <a:off x="3305160" y="-55692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ubHalfFrame"/>
          <p:cNvSpPr/>
          <p:nvPr/>
        </p:nvSpPr>
        <p:spPr>
          <a:xfrm rot="2811600">
            <a:off x="3276720" y="211932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6120" y="3559320"/>
            <a:ext cx="799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kartézské souřadnicové soustavě je počátek (nula) na průsečíku os „x“,“y“. Jednotlivé kvadranty I. - IV. jsou číslovány proti směru hodinových ručiček a hranice mezi nimi představuje světové strany: S,Z,J,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účely prostorové interpolace posuneme hranice kvadrantů o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i směru hodinových ručič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ní kvadrant pak bude představovat celý pravoúhlý trojúhelník „S“, jižní kvadrant celý pravoúhlý trojúhelník „J“, podobně jsou vymezeny kvadranty „V“ a „Z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725400" y="2362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306440" y="246240"/>
            <a:ext cx="6612120" cy="6384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ubHalfFrame"/>
          <p:cNvSpPr/>
          <p:nvPr/>
        </p:nvSpPr>
        <p:spPr>
          <a:xfrm rot="13533600">
            <a:off x="1523880" y="-35856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30640" y="685800"/>
            <a:ext cx="334800" cy="33480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" y="5081760"/>
            <a:ext cx="85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vá hrana pravoúhlého trojúhelníka vytváří tečnu ke každé vrstev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sečík tečny a vrstevnice je hranicí mezi kvadrantem „S“ a „Z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06440" y="246240"/>
            <a:ext cx="6612120" cy="6384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ubHalfFrame"/>
          <p:cNvSpPr/>
          <p:nvPr/>
        </p:nvSpPr>
        <p:spPr>
          <a:xfrm rot="13533600">
            <a:off x="176832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65440" y="944640"/>
            <a:ext cx="41112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" y="5386320"/>
            <a:ext cx="85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jnice těchto bodů vytváří severní hranici kvadrantu „Z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ubHalfFrame"/>
          <p:cNvSpPr/>
          <p:nvPr/>
        </p:nvSpPr>
        <p:spPr>
          <a:xfrm rot="13533600">
            <a:off x="2106720" y="9018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95840" y="1967040"/>
            <a:ext cx="41112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43200" y="131292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ubHalfFrame"/>
          <p:cNvSpPr/>
          <p:nvPr/>
        </p:nvSpPr>
        <p:spPr>
          <a:xfrm rot="13533600">
            <a:off x="1897200" y="27936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ubHalfFrame"/>
          <p:cNvSpPr/>
          <p:nvPr/>
        </p:nvSpPr>
        <p:spPr>
          <a:xfrm rot="13533600">
            <a:off x="1671480" y="-53928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73560" y="428760"/>
            <a:ext cx="41112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1520" y="473040"/>
            <a:ext cx="1020960" cy="2376360"/>
          </a:xfrm>
          <a:custGeom>
            <a:avLst/>
            <a:gdLst/>
            <a:ahLst/>
            <a:rect l="l" t="t" r="r" b="b"/>
            <a:pathLst>
              <a:path w="643" h="1497">
                <a:moveTo>
                  <a:pt x="0" y="0"/>
                </a:moveTo>
                <a:cubicBezTo>
                  <a:pt x="9" y="120"/>
                  <a:pt x="18" y="240"/>
                  <a:pt x="39" y="307"/>
                </a:cubicBezTo>
                <a:cubicBezTo>
                  <a:pt x="60" y="374"/>
                  <a:pt x="109" y="378"/>
                  <a:pt x="125" y="403"/>
                </a:cubicBezTo>
                <a:cubicBezTo>
                  <a:pt x="141" y="428"/>
                  <a:pt x="124" y="420"/>
                  <a:pt x="135" y="460"/>
                </a:cubicBezTo>
                <a:cubicBezTo>
                  <a:pt x="146" y="500"/>
                  <a:pt x="176" y="550"/>
                  <a:pt x="192" y="643"/>
                </a:cubicBezTo>
                <a:cubicBezTo>
                  <a:pt x="208" y="736"/>
                  <a:pt x="200" y="899"/>
                  <a:pt x="231" y="1017"/>
                </a:cubicBezTo>
                <a:cubicBezTo>
                  <a:pt x="262" y="1135"/>
                  <a:pt x="306" y="1273"/>
                  <a:pt x="375" y="1353"/>
                </a:cubicBezTo>
                <a:cubicBezTo>
                  <a:pt x="444" y="1433"/>
                  <a:pt x="598" y="1473"/>
                  <a:pt x="643" y="149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ubHalfFrame"/>
          <p:cNvSpPr/>
          <p:nvPr/>
        </p:nvSpPr>
        <p:spPr>
          <a:xfrm rot="13533600">
            <a:off x="2398680" y="130032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1360" y="233352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ubHalfFrame"/>
          <p:cNvSpPr/>
          <p:nvPr/>
        </p:nvSpPr>
        <p:spPr>
          <a:xfrm rot="13533600">
            <a:off x="2614680" y="151596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13080" y="2550960"/>
            <a:ext cx="41148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6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1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306440" y="246240"/>
            <a:ext cx="6612120" cy="6384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ubHalfFrame"/>
          <p:cNvSpPr/>
          <p:nvPr/>
        </p:nvSpPr>
        <p:spPr>
          <a:xfrm rot="13533600">
            <a:off x="6523200" y="32076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7960" y="178272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3120" y="5386320"/>
            <a:ext cx="85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konstrukci tečen na </a:t>
            </a:r>
            <a:r>
              <a:rPr b="1" lang="en-US" sz="1800" spc="-1" strike="noStrike" u="sng">
                <a:solidFill>
                  <a:srgbClr val="669900"/>
                </a:solidFill>
                <a:uFillTx/>
                <a:latin typeface="Arial"/>
              </a:rPr>
              <a:t>sever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ranici kvadrantu „VÝCHOD“ použijte levou hranu pravít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ubHalfFrame"/>
          <p:cNvSpPr/>
          <p:nvPr/>
        </p:nvSpPr>
        <p:spPr>
          <a:xfrm rot="13533600">
            <a:off x="7315200" y="-24084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111276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18280" y="149544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ubHalfFrame"/>
          <p:cNvSpPr/>
          <p:nvPr/>
        </p:nvSpPr>
        <p:spPr>
          <a:xfrm rot="13533600">
            <a:off x="6966360" y="-2520"/>
            <a:ext cx="1824120" cy="1828800"/>
          </a:xfrm>
          <a:custGeom>
            <a:avLst/>
            <a:gdLst>
              <a:gd name="textAreaLeft" fmla="*/ 0 w 1824120"/>
              <a:gd name="textAreaRight" fmla="*/ 1216080 w 182412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ubHalfFrame"/>
          <p:cNvSpPr/>
          <p:nvPr/>
        </p:nvSpPr>
        <p:spPr>
          <a:xfrm rot="13533600">
            <a:off x="4840200" y="1182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83040" y="2513160"/>
            <a:ext cx="41112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08440" y="853920"/>
            <a:ext cx="3216240" cy="1919520"/>
          </a:xfrm>
          <a:custGeom>
            <a:avLst/>
            <a:gdLst/>
            <a:ahLst/>
            <a:rect l="l" t="t" r="r" b="b"/>
            <a:pathLst>
              <a:path w="2026" h="1209">
                <a:moveTo>
                  <a:pt x="0" y="1209"/>
                </a:moveTo>
                <a:cubicBezTo>
                  <a:pt x="536" y="1007"/>
                  <a:pt x="1072" y="806"/>
                  <a:pt x="1344" y="681"/>
                </a:cubicBezTo>
                <a:cubicBezTo>
                  <a:pt x="1616" y="556"/>
                  <a:pt x="1518" y="573"/>
                  <a:pt x="1632" y="460"/>
                </a:cubicBezTo>
                <a:cubicBezTo>
                  <a:pt x="1746" y="347"/>
                  <a:pt x="1960" y="77"/>
                  <a:pt x="202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500"/>
                            </p:stCondLst>
                            <p:childTnLst>
                              <p:par>
                                <p:cTn id="373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8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1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6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306440" y="246240"/>
            <a:ext cx="6612120" cy="6384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9680" y="495360"/>
            <a:ext cx="85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vymezování </a:t>
            </a:r>
            <a:r>
              <a:rPr b="1" lang="en-US" sz="1800" spc="-1" strike="noStrike" u="sng">
                <a:solidFill>
                  <a:srgbClr val="669900"/>
                </a:solidFill>
                <a:uFillTx/>
                <a:latin typeface="Arial"/>
              </a:rPr>
              <a:t>jižn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ranic kvadrantu „Z“ a „V“ pravítko otočíme tak, aby jeho základna byla vedena rovnoběžně s jižní hranou mapového li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01760" y="516564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81160" y="510696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87560" y="492444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60600" y="4649760"/>
            <a:ext cx="41148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19600" y="423864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00680" y="361476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76640" y="3567240"/>
            <a:ext cx="41148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33840" y="4268880"/>
            <a:ext cx="41148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2040" y="4635360"/>
            <a:ext cx="411120" cy="3049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38760" y="4803840"/>
            <a:ext cx="411480" cy="30456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11520" y="473040"/>
            <a:ext cx="1065240" cy="2314440"/>
          </a:xfrm>
          <a:custGeom>
            <a:avLst/>
            <a:gdLst/>
            <a:ahLst/>
            <a:rect l="l" t="t" r="r" b="b"/>
            <a:pathLst>
              <a:path w="643" h="1497">
                <a:moveTo>
                  <a:pt x="0" y="0"/>
                </a:moveTo>
                <a:cubicBezTo>
                  <a:pt x="9" y="120"/>
                  <a:pt x="18" y="240"/>
                  <a:pt x="39" y="307"/>
                </a:cubicBezTo>
                <a:cubicBezTo>
                  <a:pt x="60" y="374"/>
                  <a:pt x="109" y="378"/>
                  <a:pt x="125" y="403"/>
                </a:cubicBezTo>
                <a:cubicBezTo>
                  <a:pt x="141" y="428"/>
                  <a:pt x="124" y="420"/>
                  <a:pt x="135" y="460"/>
                </a:cubicBezTo>
                <a:cubicBezTo>
                  <a:pt x="146" y="500"/>
                  <a:pt x="176" y="550"/>
                  <a:pt x="192" y="643"/>
                </a:cubicBezTo>
                <a:cubicBezTo>
                  <a:pt x="208" y="736"/>
                  <a:pt x="200" y="899"/>
                  <a:pt x="231" y="1017"/>
                </a:cubicBezTo>
                <a:cubicBezTo>
                  <a:pt x="262" y="1135"/>
                  <a:pt x="306" y="1273"/>
                  <a:pt x="375" y="1353"/>
                </a:cubicBezTo>
                <a:cubicBezTo>
                  <a:pt x="444" y="1433"/>
                  <a:pt x="598" y="1473"/>
                  <a:pt x="643" y="149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08440" y="853920"/>
            <a:ext cx="3216240" cy="1919520"/>
          </a:xfrm>
          <a:custGeom>
            <a:avLst/>
            <a:gdLst/>
            <a:ahLst/>
            <a:rect l="l" t="t" r="r" b="b"/>
            <a:pathLst>
              <a:path w="2026" h="1209">
                <a:moveTo>
                  <a:pt x="0" y="1209"/>
                </a:moveTo>
                <a:cubicBezTo>
                  <a:pt x="536" y="1007"/>
                  <a:pt x="1072" y="806"/>
                  <a:pt x="1344" y="681"/>
                </a:cubicBezTo>
                <a:cubicBezTo>
                  <a:pt x="1616" y="556"/>
                  <a:pt x="1518" y="573"/>
                  <a:pt x="1632" y="460"/>
                </a:cubicBezTo>
                <a:cubicBezTo>
                  <a:pt x="1746" y="347"/>
                  <a:pt x="1960" y="77"/>
                  <a:pt x="202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ubHalfFrame"/>
          <p:cNvSpPr/>
          <p:nvPr/>
        </p:nvSpPr>
        <p:spPr>
          <a:xfrm rot="2811600">
            <a:off x="6553080" y="480204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ubHalfFrame"/>
          <p:cNvSpPr/>
          <p:nvPr/>
        </p:nvSpPr>
        <p:spPr>
          <a:xfrm rot="2811600">
            <a:off x="6570720" y="410364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63760" y="2840040"/>
            <a:ext cx="6033960" cy="2782800"/>
          </a:xfrm>
          <a:custGeom>
            <a:avLst/>
            <a:gdLst/>
            <a:ahLst/>
            <a:rect l="l" t="t" r="r" b="b"/>
            <a:pathLst>
              <a:path w="3801" h="1753">
                <a:moveTo>
                  <a:pt x="0" y="1552"/>
                </a:moveTo>
                <a:cubicBezTo>
                  <a:pt x="350" y="1521"/>
                  <a:pt x="700" y="1491"/>
                  <a:pt x="921" y="1437"/>
                </a:cubicBezTo>
                <a:cubicBezTo>
                  <a:pt x="1142" y="1383"/>
                  <a:pt x="1206" y="1303"/>
                  <a:pt x="1324" y="1225"/>
                </a:cubicBezTo>
                <a:cubicBezTo>
                  <a:pt x="1442" y="1147"/>
                  <a:pt x="1562" y="1076"/>
                  <a:pt x="1632" y="966"/>
                </a:cubicBezTo>
                <a:cubicBezTo>
                  <a:pt x="1702" y="856"/>
                  <a:pt x="1698" y="696"/>
                  <a:pt x="1747" y="563"/>
                </a:cubicBezTo>
                <a:cubicBezTo>
                  <a:pt x="1796" y="430"/>
                  <a:pt x="1884" y="262"/>
                  <a:pt x="1929" y="169"/>
                </a:cubicBezTo>
                <a:cubicBezTo>
                  <a:pt x="1974" y="76"/>
                  <a:pt x="1976" y="0"/>
                  <a:pt x="2016" y="6"/>
                </a:cubicBezTo>
                <a:cubicBezTo>
                  <a:pt x="2056" y="12"/>
                  <a:pt x="2111" y="118"/>
                  <a:pt x="2169" y="208"/>
                </a:cubicBezTo>
                <a:cubicBezTo>
                  <a:pt x="2227" y="298"/>
                  <a:pt x="2284" y="413"/>
                  <a:pt x="2361" y="544"/>
                </a:cubicBezTo>
                <a:cubicBezTo>
                  <a:pt x="2438" y="675"/>
                  <a:pt x="2446" y="862"/>
                  <a:pt x="2630" y="995"/>
                </a:cubicBezTo>
                <a:cubicBezTo>
                  <a:pt x="2814" y="1128"/>
                  <a:pt x="3270" y="1215"/>
                  <a:pt x="3465" y="1341"/>
                </a:cubicBezTo>
                <a:cubicBezTo>
                  <a:pt x="3660" y="1467"/>
                  <a:pt x="3745" y="1684"/>
                  <a:pt x="3801" y="1753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remove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8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2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6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0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4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452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6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0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22280" y="230040"/>
            <a:ext cx="6612120" cy="6384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09680" y="495360"/>
            <a:ext cx="85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ímto způsobem je vymezen prostor, v němž je možno vytvářet výškový gradient např. mezi 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vrstevnicí 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ranice 1.VS v severním Q) a 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vrstevnicí 3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ranice 1.VS v jižním 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11520" y="473040"/>
            <a:ext cx="1065240" cy="2314440"/>
          </a:xfrm>
          <a:custGeom>
            <a:avLst/>
            <a:gdLst/>
            <a:ahLst/>
            <a:rect l="l" t="t" r="r" b="b"/>
            <a:pathLst>
              <a:path w="643" h="1497">
                <a:moveTo>
                  <a:pt x="0" y="0"/>
                </a:moveTo>
                <a:cubicBezTo>
                  <a:pt x="9" y="120"/>
                  <a:pt x="18" y="240"/>
                  <a:pt x="39" y="307"/>
                </a:cubicBezTo>
                <a:cubicBezTo>
                  <a:pt x="60" y="374"/>
                  <a:pt x="109" y="378"/>
                  <a:pt x="125" y="403"/>
                </a:cubicBezTo>
                <a:cubicBezTo>
                  <a:pt x="141" y="428"/>
                  <a:pt x="124" y="420"/>
                  <a:pt x="135" y="460"/>
                </a:cubicBezTo>
                <a:cubicBezTo>
                  <a:pt x="146" y="500"/>
                  <a:pt x="176" y="550"/>
                  <a:pt x="192" y="643"/>
                </a:cubicBezTo>
                <a:cubicBezTo>
                  <a:pt x="208" y="736"/>
                  <a:pt x="200" y="899"/>
                  <a:pt x="231" y="1017"/>
                </a:cubicBezTo>
                <a:cubicBezTo>
                  <a:pt x="262" y="1135"/>
                  <a:pt x="306" y="1273"/>
                  <a:pt x="375" y="1353"/>
                </a:cubicBezTo>
                <a:cubicBezTo>
                  <a:pt x="444" y="1433"/>
                  <a:pt x="598" y="1473"/>
                  <a:pt x="643" y="149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32480" y="853920"/>
            <a:ext cx="3292200" cy="1965600"/>
          </a:xfrm>
          <a:custGeom>
            <a:avLst/>
            <a:gdLst/>
            <a:ahLst/>
            <a:rect l="l" t="t" r="r" b="b"/>
            <a:pathLst>
              <a:path w="2026" h="1209">
                <a:moveTo>
                  <a:pt x="0" y="1209"/>
                </a:moveTo>
                <a:cubicBezTo>
                  <a:pt x="536" y="1007"/>
                  <a:pt x="1072" y="806"/>
                  <a:pt x="1344" y="681"/>
                </a:cubicBezTo>
                <a:cubicBezTo>
                  <a:pt x="1616" y="556"/>
                  <a:pt x="1518" y="573"/>
                  <a:pt x="1632" y="460"/>
                </a:cubicBezTo>
                <a:cubicBezTo>
                  <a:pt x="1746" y="347"/>
                  <a:pt x="1960" y="77"/>
                  <a:pt x="202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63760" y="2840040"/>
            <a:ext cx="6033960" cy="2782800"/>
          </a:xfrm>
          <a:custGeom>
            <a:avLst/>
            <a:gdLst/>
            <a:ahLst/>
            <a:rect l="l" t="t" r="r" b="b"/>
            <a:pathLst>
              <a:path w="3801" h="1753">
                <a:moveTo>
                  <a:pt x="0" y="1552"/>
                </a:moveTo>
                <a:cubicBezTo>
                  <a:pt x="350" y="1521"/>
                  <a:pt x="700" y="1491"/>
                  <a:pt x="921" y="1437"/>
                </a:cubicBezTo>
                <a:cubicBezTo>
                  <a:pt x="1142" y="1383"/>
                  <a:pt x="1206" y="1303"/>
                  <a:pt x="1324" y="1225"/>
                </a:cubicBezTo>
                <a:cubicBezTo>
                  <a:pt x="1442" y="1147"/>
                  <a:pt x="1562" y="1076"/>
                  <a:pt x="1632" y="966"/>
                </a:cubicBezTo>
                <a:cubicBezTo>
                  <a:pt x="1702" y="856"/>
                  <a:pt x="1698" y="696"/>
                  <a:pt x="1747" y="563"/>
                </a:cubicBezTo>
                <a:cubicBezTo>
                  <a:pt x="1796" y="430"/>
                  <a:pt x="1884" y="262"/>
                  <a:pt x="1929" y="169"/>
                </a:cubicBezTo>
                <a:cubicBezTo>
                  <a:pt x="1974" y="76"/>
                  <a:pt x="1976" y="0"/>
                  <a:pt x="2016" y="6"/>
                </a:cubicBezTo>
                <a:cubicBezTo>
                  <a:pt x="2056" y="12"/>
                  <a:pt x="2111" y="118"/>
                  <a:pt x="2169" y="208"/>
                </a:cubicBezTo>
                <a:cubicBezTo>
                  <a:pt x="2227" y="298"/>
                  <a:pt x="2284" y="413"/>
                  <a:pt x="2361" y="544"/>
                </a:cubicBezTo>
                <a:cubicBezTo>
                  <a:pt x="2438" y="675"/>
                  <a:pt x="2446" y="862"/>
                  <a:pt x="2630" y="995"/>
                </a:cubicBezTo>
                <a:cubicBezTo>
                  <a:pt x="2814" y="1128"/>
                  <a:pt x="3270" y="1215"/>
                  <a:pt x="3465" y="1341"/>
                </a:cubicBezTo>
                <a:cubicBezTo>
                  <a:pt x="3660" y="1467"/>
                  <a:pt x="3745" y="1684"/>
                  <a:pt x="3801" y="1753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5760" y="581184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Takže zpět k 11. snímku prezentace; snad teď bude pochopitelnějš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8201160" y="5776920"/>
            <a:ext cx="522000" cy="447840"/>
          </a:xfrm>
          <a:custGeom>
            <a:avLst/>
            <a:gdLst>
              <a:gd name="textAreaLeft" fmla="*/ 28800 w 522000"/>
              <a:gd name="textAreaRight" fmla="*/ 493200 w 522000"/>
              <a:gd name="textAreaTop" fmla="*/ 28800 h 447840"/>
              <a:gd name="textAreaBottom" fmla="*/ 419040 h 447840"/>
            </a:gdLst>
            <a:ahLst/>
            <a:rect l="textAreaLeft" t="textAreaTop" r="textAreaRight" b="textAreaBottom"/>
            <a:pathLst>
              <a:path w="25174" h="21600">
                <a:moveTo>
                  <a:pt x="0" y="0"/>
                </a:moveTo>
                <a:lnTo>
                  <a:pt x="25174" y="0"/>
                </a:lnTo>
                <a:lnTo>
                  <a:pt x="25174" y="21600"/>
                </a:lnTo>
                <a:lnTo>
                  <a:pt x="0" y="21600"/>
                </a:lnTo>
                <a:close/>
              </a:path>
              <a:path fill="lightenLess" w="25174" h="21600">
                <a:moveTo>
                  <a:pt x="0" y="0"/>
                </a:moveTo>
                <a:lnTo>
                  <a:pt x="25174" y="0"/>
                </a:lnTo>
                <a:lnTo>
                  <a:pt x="23774" y="1400"/>
                </a:lnTo>
                <a:lnTo>
                  <a:pt x="1400" y="1400"/>
                </a:lnTo>
                <a:close/>
              </a:path>
              <a:path fill="darken" w="25174" h="21600">
                <a:moveTo>
                  <a:pt x="25174" y="0"/>
                </a:moveTo>
                <a:lnTo>
                  <a:pt x="25174" y="21600"/>
                </a:lnTo>
                <a:lnTo>
                  <a:pt x="23774" y="20200"/>
                </a:lnTo>
                <a:lnTo>
                  <a:pt x="23774" y="1400"/>
                </a:lnTo>
                <a:close/>
              </a:path>
              <a:path fill="darkenLess" w="25174" h="21600">
                <a:moveTo>
                  <a:pt x="25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4" y="20200"/>
                </a:lnTo>
                <a:close/>
              </a:path>
              <a:path fill="lighten" w="25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4" h="21600">
                <a:moveTo>
                  <a:pt x="5581" y="7493"/>
                </a:moveTo>
                <a:lnTo>
                  <a:pt x="9088" y="7493"/>
                </a:lnTo>
                <a:lnTo>
                  <a:pt x="9088" y="12828"/>
                </a:lnTo>
                <a:cubicBezTo>
                  <a:pt x="9088" y="13751"/>
                  <a:pt x="9889" y="14482"/>
                  <a:pt x="10925" y="14482"/>
                </a:cubicBezTo>
                <a:lnTo>
                  <a:pt x="12587" y="14482"/>
                </a:lnTo>
                <a:cubicBezTo>
                  <a:pt x="13623" y="14482"/>
                  <a:pt x="14423" y="13751"/>
                  <a:pt x="14423" y="12828"/>
                </a:cubicBezTo>
                <a:lnTo>
                  <a:pt x="14423" y="7493"/>
                </a:lnTo>
                <a:lnTo>
                  <a:pt x="12587" y="7493"/>
                </a:lnTo>
                <a:lnTo>
                  <a:pt x="16095" y="3985"/>
                </a:lnTo>
                <a:lnTo>
                  <a:pt x="19768" y="7493"/>
                </a:lnTo>
                <a:lnTo>
                  <a:pt x="17931" y="7493"/>
                </a:lnTo>
                <a:lnTo>
                  <a:pt x="17931" y="12828"/>
                </a:lnTo>
                <a:cubicBezTo>
                  <a:pt x="17931" y="15596"/>
                  <a:pt x="15355" y="18155"/>
                  <a:pt x="12587" y="18155"/>
                </a:cubicBezTo>
                <a:lnTo>
                  <a:pt x="10925" y="18155"/>
                </a:lnTo>
                <a:cubicBezTo>
                  <a:pt x="8157" y="18155"/>
                  <a:pt x="5581" y="15596"/>
                  <a:pt x="5581" y="12828"/>
                </a:cubicBezTo>
                <a:close/>
              </a:path>
            </a:pathLst>
          </a:custGeom>
          <a:solidFill>
            <a:srgbClr val="edfca2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29680" y="6350040"/>
            <a:ext cx="2570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Andorra"/>
              </a:rPr>
              <a:t>click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Andorra"/>
              <a:ea typeface="Andorra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5733720"/>
            <a:ext cx="8316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Hypotetická krajina s rozmezím nadmořské výšky 150-500 m a.m.</a:t>
            </a:r>
            <a:br>
              <a:rPr sz="1800"/>
            </a:b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Taková krajina je zcela výjimečná: např. vápencové bradlo Pálavy s vrchem DĚVÍN (550 m n.m.) – národní přírodní a biosférická rezer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7560" y="328680"/>
            <a:ext cx="7726320" cy="529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5960" y="50760"/>
            <a:ext cx="5468760" cy="6742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68720" y="6076800"/>
            <a:ext cx="164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: RNDr. Martin Cul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89880" y="1816200"/>
            <a:ext cx="130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e- Hercn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 – Panon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- Polon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a - Carpa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9800" y="3416400"/>
            <a:ext cx="208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ranice biogeografických podprovincií v rámci ČR vyjadřuje sché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493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3360" y="169920"/>
            <a:ext cx="6612120" cy="638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98520" y="236520"/>
          <a:ext cx="1852560" cy="6367320"/>
        </p:xfrm>
        <a:graphic>
          <a:graphicData uri="http://schemas.openxmlformats.org/drawingml/2006/table">
            <a:tbl>
              <a:tblPr/>
              <a:tblGrid>
                <a:gridCol w="563400"/>
                <a:gridCol w="1289160"/>
              </a:tblGrid>
              <a:tr h="79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-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920" y="355680"/>
            <a:ext cx="63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ředcházejícího blokového diagramu jsou důležitá výšková rozhraní pro uvedený příklad vypsána v tabul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98520" y="236520"/>
          <a:ext cx="1868400" cy="6367320"/>
        </p:xfrm>
        <a:graphic>
          <a:graphicData uri="http://schemas.openxmlformats.org/drawingml/2006/table">
            <a:tbl>
              <a:tblPr/>
              <a:tblGrid>
                <a:gridCol w="568440"/>
                <a:gridCol w="1299960"/>
              </a:tblGrid>
              <a:tr h="79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-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6840" y="417600"/>
            <a:ext cx="62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nášení hranice vegetačních stupňů zahájíme zákresem jednoduchých rozhraní podle tabul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8520" y="244440"/>
          <a:ext cx="1838160" cy="6359400"/>
        </p:xfrm>
        <a:graphic>
          <a:graphicData uri="http://schemas.openxmlformats.org/drawingml/2006/table">
            <a:tbl>
              <a:tblPr/>
              <a:tblGrid>
                <a:gridCol w="558720"/>
                <a:gridCol w="1279440"/>
              </a:tblGrid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-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9" idx="0"/>
            <a:endCxn id="69" idx="1"/>
          </p:cNvCxnSpPr>
          <p:nvPr/>
        </p:nvCxnSpPr>
        <p:spPr>
          <a:xfrm>
            <a:off x="5533560" y="332244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71" name=""/>
          <p:cNvSpPr/>
          <p:nvPr/>
        </p:nvSpPr>
        <p:spPr>
          <a:xfrm flipH="1">
            <a:off x="4465800" y="5045040"/>
            <a:ext cx="380880" cy="11113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5165640"/>
            <a:ext cx="212760" cy="5191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5800" y="61563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5800" y="5684760"/>
            <a:ext cx="2452680" cy="457200"/>
          </a:xfrm>
          <a:custGeom>
            <a:avLst/>
            <a:gdLst/>
            <a:ahLst/>
            <a:rect l="l" t="t" r="r" b="b"/>
            <a:pathLst>
              <a:path w="1545" h="288">
                <a:moveTo>
                  <a:pt x="0" y="288"/>
                </a:moveTo>
                <a:cubicBezTo>
                  <a:pt x="644" y="168"/>
                  <a:pt x="1288" y="48"/>
                  <a:pt x="1545" y="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40160" y="5416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98520" y="244440"/>
          <a:ext cx="1822320" cy="6359400"/>
        </p:xfrm>
        <a:graphic>
          <a:graphicData uri="http://schemas.openxmlformats.org/drawingml/2006/table">
            <a:tbl>
              <a:tblPr/>
              <a:tblGrid>
                <a:gridCol w="554040"/>
                <a:gridCol w="1268280"/>
              </a:tblGrid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-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0"/>
            <a:endCxn id="82" idx="1"/>
          </p:cNvCxnSpPr>
          <p:nvPr/>
        </p:nvCxnSpPr>
        <p:spPr>
          <a:xfrm>
            <a:off x="5533560" y="332244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84" name=""/>
          <p:cNvSpPr/>
          <p:nvPr/>
        </p:nvSpPr>
        <p:spPr>
          <a:xfrm flipH="1">
            <a:off x="4465800" y="5045040"/>
            <a:ext cx="380880" cy="11113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5165640"/>
            <a:ext cx="212760" cy="5191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65800" y="61563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65800" y="5684760"/>
            <a:ext cx="2452680" cy="457200"/>
          </a:xfrm>
          <a:custGeom>
            <a:avLst/>
            <a:gdLst/>
            <a:ahLst/>
            <a:rect l="l" t="t" r="r" b="b"/>
            <a:pathLst>
              <a:path w="1545" h="288">
                <a:moveTo>
                  <a:pt x="0" y="288"/>
                </a:moveTo>
                <a:cubicBezTo>
                  <a:pt x="644" y="168"/>
                  <a:pt x="1288" y="48"/>
                  <a:pt x="1545" y="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40160" y="5416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61080" y="3306600"/>
            <a:ext cx="685800" cy="1738440"/>
          </a:xfrm>
          <a:custGeom>
            <a:avLst/>
            <a:gdLst/>
            <a:ahLst/>
            <a:rect l="l" t="t" r="r" b="b"/>
            <a:pathLst>
              <a:path w="451" h="1095">
                <a:moveTo>
                  <a:pt x="451" y="0"/>
                </a:moveTo>
                <a:cubicBezTo>
                  <a:pt x="263" y="456"/>
                  <a:pt x="75" y="913"/>
                  <a:pt x="0" y="109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7520" y="3336840"/>
            <a:ext cx="808200" cy="1814760"/>
          </a:xfrm>
          <a:custGeom>
            <a:avLst/>
            <a:gdLst/>
            <a:ahLst/>
            <a:rect l="l" t="t" r="r" b="b"/>
            <a:pathLst>
              <a:path w="509" h="1143">
                <a:moveTo>
                  <a:pt x="0" y="0"/>
                </a:moveTo>
                <a:cubicBezTo>
                  <a:pt x="212" y="476"/>
                  <a:pt x="424" y="953"/>
                  <a:pt x="509" y="1143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23040" y="428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98520" y="244440"/>
          <a:ext cx="1808280" cy="6359400"/>
        </p:xfrm>
        <a:graphic>
          <a:graphicData uri="http://schemas.openxmlformats.org/drawingml/2006/table">
            <a:tbl>
              <a:tblPr/>
              <a:tblGrid>
                <a:gridCol w="549360"/>
                <a:gridCol w="1258920"/>
              </a:tblGrid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-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8" idx="0"/>
            <a:endCxn id="98" idx="1"/>
          </p:cNvCxnSpPr>
          <p:nvPr/>
        </p:nvCxnSpPr>
        <p:spPr>
          <a:xfrm>
            <a:off x="5533560" y="332244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100" name=""/>
          <p:cNvSpPr/>
          <p:nvPr/>
        </p:nvSpPr>
        <p:spPr>
          <a:xfrm flipH="1">
            <a:off x="4465800" y="5045040"/>
            <a:ext cx="380880" cy="11113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5165640"/>
            <a:ext cx="212760" cy="5191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65800" y="61563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65800" y="5684760"/>
            <a:ext cx="2452680" cy="457200"/>
          </a:xfrm>
          <a:custGeom>
            <a:avLst/>
            <a:gdLst/>
            <a:ahLst/>
            <a:rect l="l" t="t" r="r" b="b"/>
            <a:pathLst>
              <a:path w="1545" h="288">
                <a:moveTo>
                  <a:pt x="0" y="288"/>
                </a:moveTo>
                <a:cubicBezTo>
                  <a:pt x="644" y="168"/>
                  <a:pt x="1288" y="48"/>
                  <a:pt x="1545" y="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0160" y="5416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61080" y="3306600"/>
            <a:ext cx="685800" cy="1738440"/>
          </a:xfrm>
          <a:custGeom>
            <a:avLst/>
            <a:gdLst/>
            <a:ahLst/>
            <a:rect l="l" t="t" r="r" b="b"/>
            <a:pathLst>
              <a:path w="451" h="1095">
                <a:moveTo>
                  <a:pt x="451" y="0"/>
                </a:moveTo>
                <a:cubicBezTo>
                  <a:pt x="263" y="456"/>
                  <a:pt x="75" y="913"/>
                  <a:pt x="0" y="109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97520" y="3336840"/>
            <a:ext cx="808200" cy="1814760"/>
          </a:xfrm>
          <a:custGeom>
            <a:avLst/>
            <a:gdLst/>
            <a:ahLst/>
            <a:rect l="l" t="t" r="r" b="b"/>
            <a:pathLst>
              <a:path w="509" h="1143">
                <a:moveTo>
                  <a:pt x="0" y="0"/>
                </a:moveTo>
                <a:cubicBezTo>
                  <a:pt x="212" y="476"/>
                  <a:pt x="424" y="953"/>
                  <a:pt x="509" y="1143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23040" y="428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16640" y="2830680"/>
            <a:ext cx="366480" cy="506160"/>
          </a:xfrm>
          <a:custGeom>
            <a:avLst/>
            <a:gdLst/>
            <a:ahLst/>
            <a:rect l="l" t="t" r="r" b="b"/>
            <a:pathLst>
              <a:path w="231" h="319">
                <a:moveTo>
                  <a:pt x="0" y="300"/>
                </a:moveTo>
                <a:cubicBezTo>
                  <a:pt x="38" y="150"/>
                  <a:pt x="77" y="0"/>
                  <a:pt x="115" y="3"/>
                </a:cubicBezTo>
                <a:cubicBezTo>
                  <a:pt x="153" y="6"/>
                  <a:pt x="212" y="266"/>
                  <a:pt x="231" y="319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12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16320" y="227160"/>
            <a:ext cx="6526080" cy="63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98520" y="244440"/>
          <a:ext cx="1807920" cy="6359400"/>
        </p:xfrm>
        <a:graphic>
          <a:graphicData uri="http://schemas.openxmlformats.org/drawingml/2006/table">
            <a:tbl>
              <a:tblPr/>
              <a:tblGrid>
                <a:gridCol w="635040"/>
                <a:gridCol w="1172880"/>
              </a:tblGrid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-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65e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545080" y="41511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34080" y="5037120"/>
            <a:ext cx="1900080" cy="277920"/>
          </a:xfrm>
          <a:custGeom>
            <a:avLst/>
            <a:gdLst/>
            <a:ahLst/>
            <a:rect l="l" t="t" r="r" b="b"/>
            <a:pathLst>
              <a:path w="1197" h="175">
                <a:moveTo>
                  <a:pt x="0" y="0"/>
                </a:moveTo>
                <a:cubicBezTo>
                  <a:pt x="65" y="33"/>
                  <a:pt x="131" y="67"/>
                  <a:pt x="192" y="91"/>
                </a:cubicBezTo>
                <a:cubicBezTo>
                  <a:pt x="253" y="115"/>
                  <a:pt x="315" y="134"/>
                  <a:pt x="365" y="146"/>
                </a:cubicBezTo>
                <a:cubicBezTo>
                  <a:pt x="415" y="158"/>
                  <a:pt x="458" y="160"/>
                  <a:pt x="493" y="164"/>
                </a:cubicBezTo>
                <a:cubicBezTo>
                  <a:pt x="528" y="168"/>
                  <a:pt x="549" y="172"/>
                  <a:pt x="576" y="173"/>
                </a:cubicBezTo>
                <a:cubicBezTo>
                  <a:pt x="603" y="174"/>
                  <a:pt x="626" y="175"/>
                  <a:pt x="658" y="173"/>
                </a:cubicBezTo>
                <a:cubicBezTo>
                  <a:pt x="690" y="171"/>
                  <a:pt x="728" y="168"/>
                  <a:pt x="768" y="164"/>
                </a:cubicBezTo>
                <a:cubicBezTo>
                  <a:pt x="808" y="160"/>
                  <a:pt x="847" y="157"/>
                  <a:pt x="896" y="146"/>
                </a:cubicBezTo>
                <a:cubicBezTo>
                  <a:pt x="945" y="135"/>
                  <a:pt x="1010" y="111"/>
                  <a:pt x="1060" y="100"/>
                </a:cubicBezTo>
                <a:cubicBezTo>
                  <a:pt x="1110" y="89"/>
                  <a:pt x="1174" y="85"/>
                  <a:pt x="1197" y="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22800"/>
            <a:ext cx="334800" cy="95040"/>
          </a:xfrm>
          <a:custGeom>
            <a:avLst/>
            <a:gdLst/>
            <a:ahLst/>
            <a:rect l="l" t="t" r="r" b="b"/>
            <a:pathLst>
              <a:path w="211" h="60">
                <a:moveTo>
                  <a:pt x="0" y="0"/>
                </a:moveTo>
                <a:cubicBezTo>
                  <a:pt x="20" y="10"/>
                  <a:pt x="41" y="20"/>
                  <a:pt x="58" y="29"/>
                </a:cubicBezTo>
                <a:cubicBezTo>
                  <a:pt x="75" y="38"/>
                  <a:pt x="87" y="54"/>
                  <a:pt x="106" y="57"/>
                </a:cubicBezTo>
                <a:cubicBezTo>
                  <a:pt x="125" y="60"/>
                  <a:pt x="156" y="57"/>
                  <a:pt x="173" y="48"/>
                </a:cubicBezTo>
                <a:cubicBezTo>
                  <a:pt x="190" y="39"/>
                  <a:pt x="205" y="8"/>
                  <a:pt x="21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0"/>
            <a:endCxn id="116" idx="1"/>
          </p:cNvCxnSpPr>
          <p:nvPr/>
        </p:nvCxnSpPr>
        <p:spPr>
          <a:xfrm>
            <a:off x="5533560" y="3322440"/>
            <a:ext cx="1080" cy="1080"/>
          </a:xfrm>
          <a:prstGeom prst="straightConnector1">
            <a:avLst/>
          </a:prstGeom>
          <a:ln w="28440">
            <a:solidFill>
              <a:srgbClr val="ff3300"/>
            </a:solidFill>
            <a:miter/>
          </a:ln>
        </p:spPr>
      </p:cxnSp>
      <p:sp>
        <p:nvSpPr>
          <p:cNvPr id="118" name=""/>
          <p:cNvSpPr/>
          <p:nvPr/>
        </p:nvSpPr>
        <p:spPr>
          <a:xfrm flipH="1">
            <a:off x="4465800" y="5045040"/>
            <a:ext cx="380880" cy="11113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5165640"/>
            <a:ext cx="212760" cy="5191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65800" y="615636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65800" y="5684760"/>
            <a:ext cx="2452680" cy="457200"/>
          </a:xfrm>
          <a:custGeom>
            <a:avLst/>
            <a:gdLst/>
            <a:ahLst/>
            <a:rect l="l" t="t" r="r" b="b"/>
            <a:pathLst>
              <a:path w="1545" h="288">
                <a:moveTo>
                  <a:pt x="0" y="288"/>
                </a:moveTo>
                <a:cubicBezTo>
                  <a:pt x="644" y="168"/>
                  <a:pt x="1288" y="48"/>
                  <a:pt x="1545" y="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40160" y="5416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1080" y="3306600"/>
            <a:ext cx="685800" cy="1738440"/>
          </a:xfrm>
          <a:custGeom>
            <a:avLst/>
            <a:gdLst/>
            <a:ahLst/>
            <a:rect l="l" t="t" r="r" b="b"/>
            <a:pathLst>
              <a:path w="451" h="1095">
                <a:moveTo>
                  <a:pt x="451" y="0"/>
                </a:moveTo>
                <a:cubicBezTo>
                  <a:pt x="263" y="456"/>
                  <a:pt x="75" y="913"/>
                  <a:pt x="0" y="109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97520" y="3336840"/>
            <a:ext cx="808200" cy="1814760"/>
          </a:xfrm>
          <a:custGeom>
            <a:avLst/>
            <a:gdLst/>
            <a:ahLst/>
            <a:rect l="l" t="t" r="r" b="b"/>
            <a:pathLst>
              <a:path w="509" h="1143">
                <a:moveTo>
                  <a:pt x="0" y="0"/>
                </a:moveTo>
                <a:cubicBezTo>
                  <a:pt x="212" y="476"/>
                  <a:pt x="424" y="953"/>
                  <a:pt x="509" y="1143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23040" y="428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16640" y="2830680"/>
            <a:ext cx="366480" cy="506160"/>
          </a:xfrm>
          <a:custGeom>
            <a:avLst/>
            <a:gdLst/>
            <a:ahLst/>
            <a:rect l="l" t="t" r="r" b="b"/>
            <a:pathLst>
              <a:path w="231" h="319">
                <a:moveTo>
                  <a:pt x="0" y="300"/>
                </a:moveTo>
                <a:cubicBezTo>
                  <a:pt x="38" y="150"/>
                  <a:pt x="77" y="0"/>
                  <a:pt x="115" y="3"/>
                </a:cubicBezTo>
                <a:cubicBezTo>
                  <a:pt x="153" y="6"/>
                  <a:pt x="212" y="266"/>
                  <a:pt x="231" y="319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12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40320" y="334800"/>
            <a:ext cx="3140280" cy="976320"/>
          </a:xfrm>
          <a:custGeom>
            <a:avLst/>
            <a:gdLst/>
            <a:ahLst/>
            <a:rect l="l" t="t" r="r" b="b"/>
            <a:pathLst>
              <a:path w="1978" h="615">
                <a:moveTo>
                  <a:pt x="0" y="0"/>
                </a:moveTo>
                <a:cubicBezTo>
                  <a:pt x="44" y="4"/>
                  <a:pt x="88" y="8"/>
                  <a:pt x="125" y="19"/>
                </a:cubicBezTo>
                <a:cubicBezTo>
                  <a:pt x="162" y="30"/>
                  <a:pt x="179" y="43"/>
                  <a:pt x="221" y="67"/>
                </a:cubicBezTo>
                <a:cubicBezTo>
                  <a:pt x="263" y="91"/>
                  <a:pt x="333" y="137"/>
                  <a:pt x="375" y="163"/>
                </a:cubicBezTo>
                <a:cubicBezTo>
                  <a:pt x="417" y="189"/>
                  <a:pt x="436" y="202"/>
                  <a:pt x="471" y="221"/>
                </a:cubicBezTo>
                <a:cubicBezTo>
                  <a:pt x="506" y="240"/>
                  <a:pt x="532" y="253"/>
                  <a:pt x="586" y="279"/>
                </a:cubicBezTo>
                <a:cubicBezTo>
                  <a:pt x="640" y="305"/>
                  <a:pt x="748" y="351"/>
                  <a:pt x="797" y="375"/>
                </a:cubicBezTo>
                <a:cubicBezTo>
                  <a:pt x="846" y="399"/>
                  <a:pt x="853" y="412"/>
                  <a:pt x="883" y="423"/>
                </a:cubicBezTo>
                <a:cubicBezTo>
                  <a:pt x="913" y="434"/>
                  <a:pt x="950" y="437"/>
                  <a:pt x="979" y="442"/>
                </a:cubicBezTo>
                <a:cubicBezTo>
                  <a:pt x="1008" y="447"/>
                  <a:pt x="1021" y="448"/>
                  <a:pt x="1056" y="451"/>
                </a:cubicBezTo>
                <a:cubicBezTo>
                  <a:pt x="1091" y="454"/>
                  <a:pt x="1148" y="461"/>
                  <a:pt x="1191" y="461"/>
                </a:cubicBezTo>
                <a:cubicBezTo>
                  <a:pt x="1234" y="461"/>
                  <a:pt x="1277" y="456"/>
                  <a:pt x="1315" y="451"/>
                </a:cubicBezTo>
                <a:cubicBezTo>
                  <a:pt x="1353" y="446"/>
                  <a:pt x="1383" y="435"/>
                  <a:pt x="1421" y="432"/>
                </a:cubicBezTo>
                <a:cubicBezTo>
                  <a:pt x="1459" y="429"/>
                  <a:pt x="1506" y="429"/>
                  <a:pt x="1546" y="432"/>
                </a:cubicBezTo>
                <a:cubicBezTo>
                  <a:pt x="1586" y="435"/>
                  <a:pt x="1631" y="443"/>
                  <a:pt x="1661" y="451"/>
                </a:cubicBezTo>
                <a:cubicBezTo>
                  <a:pt x="1691" y="459"/>
                  <a:pt x="1701" y="472"/>
                  <a:pt x="1728" y="480"/>
                </a:cubicBezTo>
                <a:cubicBezTo>
                  <a:pt x="1755" y="488"/>
                  <a:pt x="1792" y="488"/>
                  <a:pt x="1824" y="499"/>
                </a:cubicBezTo>
                <a:cubicBezTo>
                  <a:pt x="1856" y="510"/>
                  <a:pt x="1894" y="528"/>
                  <a:pt x="1920" y="547"/>
                </a:cubicBezTo>
                <a:cubicBezTo>
                  <a:pt x="1946" y="566"/>
                  <a:pt x="1968" y="604"/>
                  <a:pt x="1978" y="61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851040"/>
            <a:ext cx="3429000" cy="871560"/>
          </a:xfrm>
          <a:custGeom>
            <a:avLst/>
            <a:gdLst/>
            <a:ahLst/>
            <a:rect l="l" t="t" r="r" b="b"/>
            <a:pathLst>
              <a:path w="2160" h="549">
                <a:moveTo>
                  <a:pt x="0" y="78"/>
                </a:moveTo>
                <a:cubicBezTo>
                  <a:pt x="18" y="56"/>
                  <a:pt x="37" y="34"/>
                  <a:pt x="67" y="21"/>
                </a:cubicBezTo>
                <a:cubicBezTo>
                  <a:pt x="97" y="8"/>
                  <a:pt x="145" y="4"/>
                  <a:pt x="182" y="2"/>
                </a:cubicBezTo>
                <a:cubicBezTo>
                  <a:pt x="219" y="0"/>
                  <a:pt x="258" y="0"/>
                  <a:pt x="288" y="11"/>
                </a:cubicBezTo>
                <a:cubicBezTo>
                  <a:pt x="318" y="22"/>
                  <a:pt x="335" y="26"/>
                  <a:pt x="365" y="69"/>
                </a:cubicBezTo>
                <a:cubicBezTo>
                  <a:pt x="395" y="112"/>
                  <a:pt x="443" y="221"/>
                  <a:pt x="470" y="270"/>
                </a:cubicBezTo>
                <a:cubicBezTo>
                  <a:pt x="497" y="319"/>
                  <a:pt x="507" y="329"/>
                  <a:pt x="528" y="366"/>
                </a:cubicBezTo>
                <a:cubicBezTo>
                  <a:pt x="549" y="403"/>
                  <a:pt x="573" y="464"/>
                  <a:pt x="595" y="491"/>
                </a:cubicBezTo>
                <a:cubicBezTo>
                  <a:pt x="617" y="518"/>
                  <a:pt x="638" y="524"/>
                  <a:pt x="662" y="530"/>
                </a:cubicBezTo>
                <a:cubicBezTo>
                  <a:pt x="686" y="536"/>
                  <a:pt x="704" y="533"/>
                  <a:pt x="739" y="530"/>
                </a:cubicBezTo>
                <a:cubicBezTo>
                  <a:pt x="774" y="527"/>
                  <a:pt x="832" y="515"/>
                  <a:pt x="874" y="510"/>
                </a:cubicBezTo>
                <a:cubicBezTo>
                  <a:pt x="916" y="505"/>
                  <a:pt x="941" y="501"/>
                  <a:pt x="989" y="501"/>
                </a:cubicBezTo>
                <a:cubicBezTo>
                  <a:pt x="1037" y="501"/>
                  <a:pt x="1105" y="509"/>
                  <a:pt x="1162" y="510"/>
                </a:cubicBezTo>
                <a:cubicBezTo>
                  <a:pt x="1219" y="511"/>
                  <a:pt x="1286" y="512"/>
                  <a:pt x="1334" y="510"/>
                </a:cubicBezTo>
                <a:cubicBezTo>
                  <a:pt x="1382" y="508"/>
                  <a:pt x="1408" y="504"/>
                  <a:pt x="1450" y="501"/>
                </a:cubicBezTo>
                <a:cubicBezTo>
                  <a:pt x="1492" y="498"/>
                  <a:pt x="1535" y="501"/>
                  <a:pt x="1584" y="491"/>
                </a:cubicBezTo>
                <a:cubicBezTo>
                  <a:pt x="1633" y="481"/>
                  <a:pt x="1696" y="454"/>
                  <a:pt x="1747" y="443"/>
                </a:cubicBezTo>
                <a:cubicBezTo>
                  <a:pt x="1798" y="432"/>
                  <a:pt x="1852" y="429"/>
                  <a:pt x="1891" y="424"/>
                </a:cubicBezTo>
                <a:cubicBezTo>
                  <a:pt x="1930" y="419"/>
                  <a:pt x="1948" y="411"/>
                  <a:pt x="1978" y="414"/>
                </a:cubicBezTo>
                <a:cubicBezTo>
                  <a:pt x="2008" y="417"/>
                  <a:pt x="2044" y="421"/>
                  <a:pt x="2074" y="443"/>
                </a:cubicBezTo>
                <a:cubicBezTo>
                  <a:pt x="2104" y="465"/>
                  <a:pt x="2146" y="531"/>
                  <a:pt x="2160" y="54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886040"/>
            <a:ext cx="2849760" cy="609480"/>
          </a:xfrm>
          <a:custGeom>
            <a:avLst/>
            <a:gdLst/>
            <a:ahLst/>
            <a:rect l="l" t="t" r="r" b="b"/>
            <a:pathLst>
              <a:path w="1795" h="384">
                <a:moveTo>
                  <a:pt x="0" y="223"/>
                </a:moveTo>
                <a:cubicBezTo>
                  <a:pt x="51" y="184"/>
                  <a:pt x="102" y="146"/>
                  <a:pt x="134" y="127"/>
                </a:cubicBezTo>
                <a:cubicBezTo>
                  <a:pt x="166" y="108"/>
                  <a:pt x="173" y="114"/>
                  <a:pt x="192" y="108"/>
                </a:cubicBezTo>
                <a:cubicBezTo>
                  <a:pt x="211" y="102"/>
                  <a:pt x="224" y="91"/>
                  <a:pt x="250" y="89"/>
                </a:cubicBezTo>
                <a:cubicBezTo>
                  <a:pt x="276" y="87"/>
                  <a:pt x="321" y="92"/>
                  <a:pt x="346" y="98"/>
                </a:cubicBezTo>
                <a:cubicBezTo>
                  <a:pt x="371" y="104"/>
                  <a:pt x="374" y="100"/>
                  <a:pt x="403" y="127"/>
                </a:cubicBezTo>
                <a:cubicBezTo>
                  <a:pt x="432" y="154"/>
                  <a:pt x="468" y="222"/>
                  <a:pt x="518" y="262"/>
                </a:cubicBezTo>
                <a:cubicBezTo>
                  <a:pt x="568" y="302"/>
                  <a:pt x="638" y="350"/>
                  <a:pt x="701" y="367"/>
                </a:cubicBezTo>
                <a:cubicBezTo>
                  <a:pt x="764" y="384"/>
                  <a:pt x="847" y="373"/>
                  <a:pt x="893" y="367"/>
                </a:cubicBezTo>
                <a:cubicBezTo>
                  <a:pt x="939" y="361"/>
                  <a:pt x="946" y="346"/>
                  <a:pt x="979" y="329"/>
                </a:cubicBezTo>
                <a:cubicBezTo>
                  <a:pt x="1012" y="312"/>
                  <a:pt x="1046" y="296"/>
                  <a:pt x="1094" y="262"/>
                </a:cubicBezTo>
                <a:cubicBezTo>
                  <a:pt x="1142" y="228"/>
                  <a:pt x="1195" y="161"/>
                  <a:pt x="1267" y="127"/>
                </a:cubicBezTo>
                <a:cubicBezTo>
                  <a:pt x="1339" y="93"/>
                  <a:pt x="1463" y="79"/>
                  <a:pt x="1526" y="60"/>
                </a:cubicBezTo>
                <a:cubicBezTo>
                  <a:pt x="1589" y="41"/>
                  <a:pt x="1597" y="22"/>
                  <a:pt x="1642" y="12"/>
                </a:cubicBezTo>
                <a:cubicBezTo>
                  <a:pt x="1687" y="2"/>
                  <a:pt x="1762" y="0"/>
                  <a:pt x="1795" y="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9040" y="334800"/>
            <a:ext cx="870120" cy="2500560"/>
          </a:xfrm>
          <a:custGeom>
            <a:avLst/>
            <a:gdLst/>
            <a:ahLst/>
            <a:rect l="l" t="t" r="r" b="b"/>
            <a:pathLst>
              <a:path w="548" h="1575">
                <a:moveTo>
                  <a:pt x="376" y="0"/>
                </a:moveTo>
                <a:cubicBezTo>
                  <a:pt x="252" y="101"/>
                  <a:pt x="128" y="203"/>
                  <a:pt x="78" y="403"/>
                </a:cubicBezTo>
                <a:cubicBezTo>
                  <a:pt x="28" y="603"/>
                  <a:pt x="0" y="1005"/>
                  <a:pt x="78" y="1200"/>
                </a:cubicBezTo>
                <a:cubicBezTo>
                  <a:pt x="156" y="1395"/>
                  <a:pt x="470" y="1513"/>
                  <a:pt x="548" y="1575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99160" y="1311120"/>
            <a:ext cx="2895480" cy="1524240"/>
          </a:xfrm>
          <a:custGeom>
            <a:avLst/>
            <a:gdLst/>
            <a:ahLst/>
            <a:rect l="l" t="t" r="r" b="b"/>
            <a:pathLst>
              <a:path w="1824" h="960">
                <a:moveTo>
                  <a:pt x="1824" y="0"/>
                </a:moveTo>
                <a:cubicBezTo>
                  <a:pt x="1792" y="108"/>
                  <a:pt x="1761" y="216"/>
                  <a:pt x="1680" y="278"/>
                </a:cubicBezTo>
                <a:cubicBezTo>
                  <a:pt x="1599" y="340"/>
                  <a:pt x="1615" y="260"/>
                  <a:pt x="1335" y="374"/>
                </a:cubicBezTo>
                <a:cubicBezTo>
                  <a:pt x="1055" y="488"/>
                  <a:pt x="222" y="862"/>
                  <a:pt x="0" y="960"/>
                </a:cubicBezTo>
              </a:path>
            </a:pathLst>
          </a:custGeom>
          <a:noFill/>
          <a:ln w="284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6160" y="493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1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50000" y="1087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2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21400" y="17589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3.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16480" y="2200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199360" y="5608440"/>
            <a:ext cx="0" cy="6555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33040" y="52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22:13:18Z</dcterms:created>
  <dc:creator>ing.Petr Kučera,Ph.D.</dc:creator>
  <dc:description/>
  <dc:language>en-US</dc:language>
  <cp:lastModifiedBy>ing.Petr Kučera,Ph.D.</cp:lastModifiedBy>
  <dcterms:modified xsi:type="dcterms:W3CDTF">2003-11-20T15:59:41Z</dcterms:modified>
  <cp:revision>50</cp:revision>
  <dc:subject/>
  <dc:title>Snímek 1</dc:title>
</cp:coreProperties>
</file>