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3C5-58BF-4EFE-846F-AC005D09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8082-E1EA-4F15-81E0-8EF1DC3F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A39-4964-4642-BCBE-99859881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26A-ACAC-4981-B82C-536E1DF2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A65C-0AC0-4B9A-B98C-31596784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266C-BDFD-4FCE-8381-C63DB0EB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682F-3046-4CFF-B4AA-E2777FCB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7DAB-9C3E-4684-BFB9-06524A43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C2CE-2414-4077-88CE-6AC17677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0239-3E36-4661-BEEC-DAE77D6B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4B73-FB2D-4A7F-A666-D9F8568D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3082-625C-4BAF-BC97-983E76A3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7194-F67E-459E-9B28-BB5194244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76440" y="121932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ST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68600" y="2833560"/>
            <a:ext cx="58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Tlak, námaha, síla, nesnáz, obtíž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040" y="472428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Za STRES považujeme každý PODNĚT, překračující svojí intenzitou úroveň standardu (fyziologického, ekologického …). V sérii odchylek běžné fluktuace jevu představuje mimořádně silnou intenzitu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4572000"/>
            <a:ext cx="8534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okální stabilita UVNITŘ hraniční lin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homeorhéza v celém prostoru od hraniční linie dostředně – za hraniční linií nestabili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stres54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953240" cy="40654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4572000"/>
            <a:ext cx="8534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kce na stres může být velmi efektivní, ale i opačná = nulová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schopnosti reagovat pak závisí i schopnost KOMPENZOVAT/odstranit následk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tres1" descr=""/>
          <p:cNvPicPr/>
          <p:nvPr/>
        </p:nvPicPr>
        <p:blipFill>
          <a:blip r:embed="rId1"/>
          <a:stretch/>
        </p:blipFill>
        <p:spPr>
          <a:xfrm>
            <a:off x="1752480" y="480960"/>
            <a:ext cx="5029200" cy="348156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95480" y="1523880"/>
            <a:ext cx="3886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184400"/>
            <a:ext cx="67820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3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s je kompenzován ÚPLNĚ a na ekosystému nepozorujeme žádnou změ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s je kompenzován NEÚPLNĚ a ekosystém změní svoji strukturu – např. změní svoje druhové slože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s není kompenzován VŮBEC a systém se zhroutí – je nahrazen jiným (např. společenstvo vrb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ICETA ALBA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B-C5a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hrazuje původní dubové jasenin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UERCI ROBORIS-FRAXINET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BC-C4-5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19320" y="6858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vní fáze poplachové reakce pracuje na principu REZILIENCE. Další fáze uplatňuje REZISTENCI. V poslední fázi se systém buď zhroutí, nebo stres vykompenzuje a funguje dá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tres2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5943600" cy="23223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8088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rmann et Likens 1979: smíšený les v New Hempshire se 3 jehličnany a převahou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Fagus grandifolia,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300 mm srážek. Oblasti stability: A = mezidruhová konkurence, B = mírný stres aktivuje tlumivé reakce, oblast C = vývoj vlastností ekosystému nelze předvídat, návrat je málo pravděpodobný. Starý ekosystém zaniká a nový vznik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stres3" descr=""/>
          <p:cNvPicPr/>
          <p:nvPr/>
        </p:nvPicPr>
        <p:blipFill>
          <a:blip r:embed="rId1"/>
          <a:stretch/>
        </p:blipFill>
        <p:spPr>
          <a:xfrm>
            <a:off x="1676520" y="3429000"/>
            <a:ext cx="6095880" cy="2838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343400" y="304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STANTNOST (kolísání v zanedbatelném rozsa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tres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53960" cy="640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343400" y="10666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KLIČNOST (změny jsou pravidelné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17524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ZISTENCE (změna původního  stavu se  neprojev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26668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ZILIENCE (je obnoven původní sta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34290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OGENNÍ TRVALÉ ZMĚNY (ústup pionýrských dřevin v sukces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41911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OGENNÍ TRVALÉ ZMĚNY (odumíraní lesů působením emi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48769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OGENNÍ FLUKTUACE (např. semenné roky u smrk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57913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OGENNÍ FLUKTUACE (zazemňování říčních ramen, eroze, vznik rezist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45720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lobální centrovaná stabilita (homeostáz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tres51" descr=""/>
          <p:cNvPicPr/>
          <p:nvPr/>
        </p:nvPicPr>
        <p:blipFill>
          <a:blip r:embed="rId1"/>
          <a:stretch/>
        </p:blipFill>
        <p:spPr>
          <a:xfrm>
            <a:off x="2971800" y="214200"/>
            <a:ext cx="3657600" cy="358776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45720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ální centrovaná nestabil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tres52" descr=""/>
          <p:cNvPicPr/>
          <p:nvPr/>
        </p:nvPicPr>
        <p:blipFill>
          <a:blip r:embed="rId1"/>
          <a:stretch/>
        </p:blipFill>
        <p:spPr>
          <a:xfrm>
            <a:off x="2666880" y="304920"/>
            <a:ext cx="4267440" cy="36622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4572000"/>
            <a:ext cx="8534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ální stabilita OKOLO hraniční lin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luktuace ve vztahu dravec x koř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stres53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4343400" cy="410184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12:26:49Z</dcterms:created>
  <dc:creator>ing.Petr Kučera</dc:creator>
  <dc:description/>
  <dc:language>en-US</dc:language>
  <cp:lastModifiedBy>ing.Petr Kučera</cp:lastModifiedBy>
  <dcterms:modified xsi:type="dcterms:W3CDTF">2003-10-21T12:07:23Z</dcterms:modified>
  <cp:revision>10</cp:revision>
  <dc:subject/>
  <dc:title>Prezentace aplikace PowerPoint</dc:title>
</cp:coreProperties>
</file>